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8A2C9-C326-43DC-A41D-2309AF3AA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odule 1:  Not a Pretty Picture – The Importance of Children’s Ministry (Mark 10:14)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AF83-EBA5-40AA-9F41-C2D744BBA4B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What’s Wrong with This Picture?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Outsid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setting has changed in Mark10:10 from a public one to a private home.  It took place inside a house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 is happy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Children are too old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-- 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Disciples are happy?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– The disciples rebuked the parents.  Why do you think the disciples rebuked the parents?  The disciples were busy learning from Jesus, and so they probably thought,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is just isn’t the time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didn’t appreciate the disrupt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36544-F8E2-400E-9294-0DABC13472C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Contex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tried to trip him up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12A96-12AA-4877-AD5A-CAEC1369DF03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Parents’ Inten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3.  “Then they brought little children to Him, that He might touch them; but the disciples rebuked those who brought them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“They” probably refers to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The children are likely toddlers and/or infa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For the purpose of getting Jesus’ bless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children who were brought to Jesus were likely infants or young toddlers.  Some scholars believe it was a tradition to bring children at one year of age to a rabbi in a synagogue for his blessing.  And so, it could very well have been that these children were brought to Jesus for His blessing and His prayer for them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979EB-C6D7-4A2D-9303-035E132D0AE5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Disciples’ Response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 disciples rebuked the parent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This is not the time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“We are doing something more important than blessing children.”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0D27E-143E-4513-ACCD-789C1FFBFD2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Emotio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v. 14.  “But when Jesus saw it, He was greatly displeased and said to them, “Let the little children come to Me, and do not forbid them; for of such  is the kingdom of God.”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Jesus was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“angry”, “displeased”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ince Jesus’ emotional reaction is only recorded in Mark, it often gets overlooked.  An artist who paints this scene without studying the Mark account will portray a happy, peaceful occasion.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449B1-FD19-4F2E-A4CB-BA7136F07EE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How We See Children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1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wrong!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athy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toward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Attitude #2:  Children are a </a:t>
            </a:r>
            <a:r>
              <a:rPr b="1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ffffff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practic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ffffff"/>
                </a:solidFill>
                <a:uFillTx/>
                <a:latin typeface="Humanst521 BT"/>
              </a:rPr>
              <a:t>approval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3:  Children are our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tru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!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ppreciation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of children’s ministry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-- Moses reminded the children of Israel of this view of children (Deut 4:40; 6:1-2).  If we don’t minister to children, Christianity will di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Attitude #4:  Children are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Jesus’!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when it is present, there is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Humanst521 BT"/>
              </a:rPr>
              <a:t>a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86525-8032-470A-A250-4061180CB7F7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Jesus’ Priorit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9DBE4-833F-49DA-A08B-C73103F9886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esources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1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391FB-2747-4B3F-8F27-0AB9DA0E0DDB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FDD2C-3ACB-4E00-B66F-46CA541342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7AF2-561A-457E-ACFA-2EDE5475E4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EB130-26DA-4A0C-A286-BC27C9B0BF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BA17C-4D35-4980-AE72-80BEADF471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8B8B3-1A29-4316-BF2E-D0A27F703D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93292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560560" y="247644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93292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560560" y="4321800"/>
            <a:ext cx="250236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19F45-5D6E-492C-B184-AD9EE833A9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70232-859D-40CB-8B20-38B335020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1E33-3A76-4856-B073-C6296D87D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640080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04845-B310-4A00-ACEF-39FB089C87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18207-EAE3-41A1-994B-6101AFC455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287600" y="432180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9FC93-3DDB-495D-91D2-938AB7FBF1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287600" y="2476440"/>
            <a:ext cx="37926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77724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C4C79-8B12-4487-96F1-D265B7B02D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10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1-</a:t>
            </a:r>
            <a:fld id="{804FFD10-25A6-43FA-A03A-63C7098AA12F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Arial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77724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631440" indent="-2426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2" marL="9712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3" marL="136008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4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5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6" marL="1748520" indent="-194040">
              <a:spcBef>
                <a:spcPts val="799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379320" y="4563720"/>
            <a:ext cx="5402520" cy="11890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6633"/>
                </a:solidFill>
                <a:latin typeface="Humanst521 BT"/>
              </a:rPr>
              <a:t>Module  4A:</a:t>
            </a:r>
            <a:br>
              <a:rPr sz="3800"/>
            </a:br>
            <a:r>
              <a:rPr b="1" lang="en-US" sz="4000" spc="-1" strike="noStrike">
                <a:solidFill>
                  <a:srgbClr val="434c8d"/>
                </a:solidFill>
                <a:latin typeface="Humanst521 BT"/>
              </a:rPr>
              <a:t>Not a Pretty Pictur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544400" y="247680"/>
            <a:ext cx="660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Leadership Certification, Level III, Course #4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2D5B24B3-892E-45DD-8987-49B23DF67B6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pic>
        <p:nvPicPr>
          <p:cNvPr id="91" name="Picture 4" descr=""/>
          <p:cNvPicPr/>
          <p:nvPr/>
        </p:nvPicPr>
        <p:blipFill>
          <a:blip r:embed="rId1"/>
          <a:srcRect l="0" t="18286" r="0" b="19059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5617800"/>
            <a:ext cx="9144000" cy="934920"/>
          </a:xfrm>
          <a:prstGeom prst="rect">
            <a:avLst/>
          </a:prstGeom>
          <a:solidFill>
            <a:srgbClr val="000000">
              <a:alpha val="5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What’s </a:t>
            </a:r>
            <a:r>
              <a:rPr b="0" i="1" lang="en-US" sz="4000" spc="-1" strike="noStrike">
                <a:solidFill>
                  <a:srgbClr val="ffffff"/>
                </a:solidFill>
                <a:latin typeface="Humanst521 BT"/>
              </a:rPr>
              <a:t>Wrong</a:t>
            </a:r>
            <a:r>
              <a:rPr b="0" lang="en-US" sz="4000" spc="-1" strike="noStrike">
                <a:solidFill>
                  <a:srgbClr val="ffffff"/>
                </a:solidFill>
                <a:latin typeface="Humanst521 BT"/>
              </a:rPr>
              <a:t> with This Picture?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3" name="AutoShape 5"/>
          <p:cNvSpPr/>
          <p:nvPr/>
        </p:nvSpPr>
        <p:spPr>
          <a:xfrm>
            <a:off x="228600" y="228600"/>
            <a:ext cx="1871640" cy="5317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Outsi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AutoShape 6"/>
          <p:cNvSpPr/>
          <p:nvPr/>
        </p:nvSpPr>
        <p:spPr>
          <a:xfrm>
            <a:off x="914400" y="3200400"/>
            <a:ext cx="1871640" cy="12193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Children are too ol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5" name="AutoShape 7"/>
          <p:cNvSpPr/>
          <p:nvPr/>
        </p:nvSpPr>
        <p:spPr>
          <a:xfrm>
            <a:off x="6313320" y="3657600"/>
            <a:ext cx="2264040" cy="76212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anst521 BT"/>
              </a:rPr>
              <a:t>Disciples(?) are 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5029200" y="304920"/>
            <a:ext cx="1871640" cy="838080"/>
          </a:xfrm>
          <a:prstGeom prst="roundRect">
            <a:avLst>
              <a:gd name="adj" fmla="val 16667"/>
            </a:avLst>
          </a:prstGeom>
          <a:solidFill>
            <a:srgbClr val="0000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Jesus i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Humanst521 BT"/>
              </a:rPr>
              <a:t>happy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18ACC667-7789-4CC5-B959-DBE3C1D4883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C9359117-F8B1-47C0-8147-C8321D278A7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Contex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4560" y="2476440"/>
            <a:ext cx="38098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2-9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Pharisees debated Jesu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tried to trip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m up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 failed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267080" y="2476440"/>
            <a:ext cx="3810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Humanst521 BT"/>
              </a:rPr>
              <a:t>Mark 10:10-12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scene changes to a hous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disciples wanted to know mor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94FF2FF7-F5B2-482B-B01F-6DD5E27A0D2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Parents’ Intent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9520" y="2476440"/>
            <a:ext cx="495324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y brought young children to Jesu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y” probably ref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o pare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e children are likely toddlers and/or infants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For the purpose of getting Jesus’ blessing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5" name="Group 8"/>
          <p:cNvGrpSpPr/>
          <p:nvPr/>
        </p:nvGrpSpPr>
        <p:grpSpPr>
          <a:xfrm>
            <a:off x="-452520" y="830160"/>
            <a:ext cx="5019480" cy="6230880"/>
            <a:chOff x="-452520" y="830160"/>
            <a:chExt cx="5019480" cy="6230880"/>
          </a:xfrm>
        </p:grpSpPr>
        <p:sp>
          <p:nvSpPr>
            <p:cNvPr id="106" name="Freeform 5"/>
            <p:cNvSpPr/>
            <p:nvPr/>
          </p:nvSpPr>
          <p:spPr>
            <a:xfrm rot="595800">
              <a:off x="0" y="1142640"/>
              <a:ext cx="4114440" cy="5605200"/>
            </a:xfrm>
            <a:custGeom>
              <a:avLst/>
              <a:gdLst>
                <a:gd name="textAreaLeft" fmla="*/ 0 w 4114440"/>
                <a:gd name="textAreaRight" fmla="*/ 4114800 w 4114440"/>
                <a:gd name="textAreaTop" fmla="*/ 0 h 5605200"/>
                <a:gd name="textAreaBottom" fmla="*/ 5605560 h 56052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07" name="Freeform 6"/>
            <p:cNvSpPr/>
            <p:nvPr/>
          </p:nvSpPr>
          <p:spPr>
            <a:xfrm rot="595800">
              <a:off x="41760" y="1249200"/>
              <a:ext cx="3981960" cy="5402880"/>
            </a:xfrm>
            <a:custGeom>
              <a:avLst/>
              <a:gdLst>
                <a:gd name="textAreaLeft" fmla="*/ 0 w 3981960"/>
                <a:gd name="textAreaRight" fmla="*/ 3982320 w 3981960"/>
                <a:gd name="textAreaTop" fmla="*/ 0 h 5402880"/>
                <a:gd name="textAreaBottom" fmla="*/ 5403240 h 540288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08" name="Text Box 7"/>
          <p:cNvSpPr/>
          <p:nvPr/>
        </p:nvSpPr>
        <p:spPr>
          <a:xfrm>
            <a:off x="527040" y="1638360"/>
            <a:ext cx="3035160" cy="49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2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A7BB40EE-B27D-4C80-813E-D39B69A6E7A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0" name="Group 8"/>
          <p:cNvGrpSpPr/>
          <p:nvPr/>
        </p:nvGrpSpPr>
        <p:grpSpPr>
          <a:xfrm>
            <a:off x="-433440" y="935280"/>
            <a:ext cx="4867560" cy="5984640"/>
            <a:chOff x="-433440" y="935280"/>
            <a:chExt cx="4867560" cy="5984640"/>
          </a:xfrm>
        </p:grpSpPr>
        <p:sp>
          <p:nvSpPr>
            <p:cNvPr id="111" name="Freeform 9"/>
            <p:cNvSpPr/>
            <p:nvPr/>
          </p:nvSpPr>
          <p:spPr>
            <a:xfrm rot="595800">
              <a:off x="0" y="1239840"/>
              <a:ext cx="4000320" cy="5375160"/>
            </a:xfrm>
            <a:custGeom>
              <a:avLst/>
              <a:gdLst>
                <a:gd name="textAreaLeft" fmla="*/ 0 w 4000320"/>
                <a:gd name="textAreaRight" fmla="*/ 4000680 w 4000320"/>
                <a:gd name="textAreaTop" fmla="*/ 0 h 5375160"/>
                <a:gd name="textAreaBottom" fmla="*/ 5375520 h 537516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12" name="Freeform 10"/>
            <p:cNvSpPr/>
            <p:nvPr/>
          </p:nvSpPr>
          <p:spPr>
            <a:xfrm rot="595800">
              <a:off x="40320" y="1341360"/>
              <a:ext cx="3871440" cy="5181120"/>
            </a:xfrm>
            <a:custGeom>
              <a:avLst/>
              <a:gdLst>
                <a:gd name="textAreaLeft" fmla="*/ 0 w 3871440"/>
                <a:gd name="textAreaRight" fmla="*/ 3871800 w 3871440"/>
                <a:gd name="textAreaTop" fmla="*/ 0 h 5181120"/>
                <a:gd name="textAreaBottom" fmla="*/ 5181480 h 518112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The Disciples’ Response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9880" y="2411280"/>
            <a:ext cx="502920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disciples rebuke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 parents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332640" indent="-33264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Their attitude: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This is not the time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We are doing something more important than blessing children.”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5" name="Text Box 13"/>
          <p:cNvSpPr/>
          <p:nvPr/>
        </p:nvSpPr>
        <p:spPr>
          <a:xfrm>
            <a:off x="507960" y="1638360"/>
            <a:ext cx="3073320" cy="447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13.  Then they brought little children to Him, that He might touch them; </a:t>
            </a:r>
            <a:br>
              <a:rPr sz="3200"/>
            </a:br>
            <a:r>
              <a:rPr b="0" i="1" lang="en-US" sz="3200" spc="-1" strike="noStrike">
                <a:solidFill>
                  <a:srgbClr val="ffffff"/>
                </a:solidFill>
                <a:latin typeface="Humanst521 BT"/>
              </a:rPr>
              <a:t>but the disciples rebuked those who brought them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" dur="2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2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2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2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DEEE3336-A7B0-42DF-9587-B52CB7C2FE9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Emotio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962160" y="2476440"/>
            <a:ext cx="4724280" cy="35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!!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e was angry at the disciples’ attitud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eir “discussion” was more important than blessing children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anst521 BT"/>
              </a:rPr>
              <a:t>His words were words of rebuke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9" name="Group 12"/>
          <p:cNvGrpSpPr/>
          <p:nvPr/>
        </p:nvGrpSpPr>
        <p:grpSpPr>
          <a:xfrm>
            <a:off x="-464760" y="706320"/>
            <a:ext cx="4948560" cy="6345360"/>
            <a:chOff x="-464760" y="706320"/>
            <a:chExt cx="4948560" cy="6345360"/>
          </a:xfrm>
        </p:grpSpPr>
        <p:sp>
          <p:nvSpPr>
            <p:cNvPr id="120" name="Freeform 13"/>
            <p:cNvSpPr/>
            <p:nvPr/>
          </p:nvSpPr>
          <p:spPr>
            <a:xfrm rot="595800">
              <a:off x="0" y="1009800"/>
              <a:ext cx="4019040" cy="5738400"/>
            </a:xfrm>
            <a:custGeom>
              <a:avLst/>
              <a:gdLst>
                <a:gd name="textAreaLeft" fmla="*/ 0 w 4019040"/>
                <a:gd name="textAreaRight" fmla="*/ 4019400 w 4019040"/>
                <a:gd name="textAreaTop" fmla="*/ 0 h 5738400"/>
                <a:gd name="textAreaBottom" fmla="*/ 5738760 h 5738400"/>
              </a:gdLst>
              <a:ahLst/>
              <a:rect l="textAreaLeft" t="textAreaTop" r="textAreaRight" b="textAreaBottom"/>
              <a:pathLst>
                <a:path w="6397" h="8943">
                  <a:moveTo>
                    <a:pt x="6160" y="8063"/>
                  </a:moveTo>
                  <a:lnTo>
                    <a:pt x="6170" y="8063"/>
                  </a:lnTo>
                  <a:lnTo>
                    <a:pt x="6181" y="8064"/>
                  </a:lnTo>
                  <a:lnTo>
                    <a:pt x="6194" y="8064"/>
                  </a:lnTo>
                  <a:lnTo>
                    <a:pt x="6207" y="8064"/>
                  </a:lnTo>
                  <a:lnTo>
                    <a:pt x="6218" y="8063"/>
                  </a:lnTo>
                  <a:lnTo>
                    <a:pt x="6230" y="8062"/>
                  </a:lnTo>
                  <a:lnTo>
                    <a:pt x="6241" y="8058"/>
                  </a:lnTo>
                  <a:lnTo>
                    <a:pt x="6249" y="8054"/>
                  </a:lnTo>
                  <a:lnTo>
                    <a:pt x="6256" y="8051"/>
                  </a:lnTo>
                  <a:lnTo>
                    <a:pt x="6263" y="8049"/>
                  </a:lnTo>
                  <a:lnTo>
                    <a:pt x="6271" y="8048"/>
                  </a:lnTo>
                  <a:lnTo>
                    <a:pt x="6278" y="8048"/>
                  </a:lnTo>
                  <a:lnTo>
                    <a:pt x="6286" y="8048"/>
                  </a:lnTo>
                  <a:lnTo>
                    <a:pt x="6294" y="8047"/>
                  </a:lnTo>
                  <a:lnTo>
                    <a:pt x="6301" y="8045"/>
                  </a:lnTo>
                  <a:lnTo>
                    <a:pt x="6306" y="8040"/>
                  </a:lnTo>
                  <a:lnTo>
                    <a:pt x="6315" y="8035"/>
                  </a:lnTo>
                  <a:lnTo>
                    <a:pt x="6325" y="8031"/>
                  </a:lnTo>
                  <a:lnTo>
                    <a:pt x="6339" y="8027"/>
                  </a:lnTo>
                  <a:lnTo>
                    <a:pt x="6354" y="8024"/>
                  </a:lnTo>
                  <a:lnTo>
                    <a:pt x="6366" y="8019"/>
                  </a:lnTo>
                  <a:lnTo>
                    <a:pt x="6379" y="8013"/>
                  </a:lnTo>
                  <a:lnTo>
                    <a:pt x="6390" y="8005"/>
                  </a:lnTo>
                  <a:lnTo>
                    <a:pt x="6397" y="7994"/>
                  </a:lnTo>
                  <a:lnTo>
                    <a:pt x="6391" y="7978"/>
                  </a:lnTo>
                  <a:lnTo>
                    <a:pt x="6384" y="7958"/>
                  </a:lnTo>
                  <a:lnTo>
                    <a:pt x="6376" y="7934"/>
                  </a:lnTo>
                  <a:lnTo>
                    <a:pt x="6368" y="7909"/>
                  </a:lnTo>
                  <a:lnTo>
                    <a:pt x="6359" y="7884"/>
                  </a:lnTo>
                  <a:lnTo>
                    <a:pt x="6354" y="7863"/>
                  </a:lnTo>
                  <a:lnTo>
                    <a:pt x="6349" y="7846"/>
                  </a:lnTo>
                  <a:lnTo>
                    <a:pt x="6348" y="7835"/>
                  </a:lnTo>
                  <a:lnTo>
                    <a:pt x="6345" y="7829"/>
                  </a:lnTo>
                  <a:lnTo>
                    <a:pt x="6341" y="7823"/>
                  </a:lnTo>
                  <a:lnTo>
                    <a:pt x="6334" y="7818"/>
                  </a:lnTo>
                  <a:lnTo>
                    <a:pt x="6325" y="7813"/>
                  </a:lnTo>
                  <a:lnTo>
                    <a:pt x="6316" y="7807"/>
                  </a:lnTo>
                  <a:lnTo>
                    <a:pt x="6308" y="7802"/>
                  </a:lnTo>
                  <a:lnTo>
                    <a:pt x="6299" y="7797"/>
                  </a:lnTo>
                  <a:lnTo>
                    <a:pt x="6295" y="7791"/>
                  </a:lnTo>
                  <a:lnTo>
                    <a:pt x="6290" y="7784"/>
                  </a:lnTo>
                  <a:lnTo>
                    <a:pt x="6284" y="7771"/>
                  </a:lnTo>
                  <a:lnTo>
                    <a:pt x="6278" y="7755"/>
                  </a:lnTo>
                  <a:lnTo>
                    <a:pt x="6272" y="7736"/>
                  </a:lnTo>
                  <a:lnTo>
                    <a:pt x="6268" y="7712"/>
                  </a:lnTo>
                  <a:lnTo>
                    <a:pt x="6264" y="7686"/>
                  </a:lnTo>
                  <a:lnTo>
                    <a:pt x="6265" y="7654"/>
                  </a:lnTo>
                  <a:lnTo>
                    <a:pt x="6270" y="7618"/>
                  </a:lnTo>
                  <a:lnTo>
                    <a:pt x="6276" y="7583"/>
                  </a:lnTo>
                  <a:lnTo>
                    <a:pt x="6279" y="7551"/>
                  </a:lnTo>
                  <a:lnTo>
                    <a:pt x="6281" y="7523"/>
                  </a:lnTo>
                  <a:lnTo>
                    <a:pt x="6279" y="7497"/>
                  </a:lnTo>
                  <a:lnTo>
                    <a:pt x="6276" y="7474"/>
                  </a:lnTo>
                  <a:lnTo>
                    <a:pt x="6270" y="7453"/>
                  </a:lnTo>
                  <a:lnTo>
                    <a:pt x="6262" y="7432"/>
                  </a:lnTo>
                  <a:lnTo>
                    <a:pt x="6252" y="7413"/>
                  </a:lnTo>
                  <a:lnTo>
                    <a:pt x="6242" y="7394"/>
                  </a:lnTo>
                  <a:lnTo>
                    <a:pt x="6231" y="7371"/>
                  </a:lnTo>
                  <a:lnTo>
                    <a:pt x="6223" y="7347"/>
                  </a:lnTo>
                  <a:lnTo>
                    <a:pt x="6217" y="7323"/>
                  </a:lnTo>
                  <a:lnTo>
                    <a:pt x="6211" y="7301"/>
                  </a:lnTo>
                  <a:lnTo>
                    <a:pt x="6209" y="7280"/>
                  </a:lnTo>
                  <a:lnTo>
                    <a:pt x="6208" y="7264"/>
                  </a:lnTo>
                  <a:lnTo>
                    <a:pt x="6209" y="7253"/>
                  </a:lnTo>
                  <a:lnTo>
                    <a:pt x="6209" y="7227"/>
                  </a:lnTo>
                  <a:lnTo>
                    <a:pt x="6202" y="7189"/>
                  </a:lnTo>
                  <a:lnTo>
                    <a:pt x="6196" y="7148"/>
                  </a:lnTo>
                  <a:lnTo>
                    <a:pt x="6199" y="7111"/>
                  </a:lnTo>
                  <a:lnTo>
                    <a:pt x="6208" y="7073"/>
                  </a:lnTo>
                  <a:lnTo>
                    <a:pt x="6214" y="7026"/>
                  </a:lnTo>
                  <a:lnTo>
                    <a:pt x="6218" y="6983"/>
                  </a:lnTo>
                  <a:lnTo>
                    <a:pt x="6222" y="6950"/>
                  </a:lnTo>
                  <a:lnTo>
                    <a:pt x="6222" y="6921"/>
                  </a:lnTo>
                  <a:lnTo>
                    <a:pt x="6219" y="6884"/>
                  </a:lnTo>
                  <a:lnTo>
                    <a:pt x="6215" y="6849"/>
                  </a:lnTo>
                  <a:lnTo>
                    <a:pt x="6214" y="6820"/>
                  </a:lnTo>
                  <a:lnTo>
                    <a:pt x="6211" y="6787"/>
                  </a:lnTo>
                  <a:lnTo>
                    <a:pt x="6205" y="6740"/>
                  </a:lnTo>
                  <a:lnTo>
                    <a:pt x="6197" y="6692"/>
                  </a:lnTo>
                  <a:lnTo>
                    <a:pt x="6190" y="6655"/>
                  </a:lnTo>
                  <a:lnTo>
                    <a:pt x="6187" y="6640"/>
                  </a:lnTo>
                  <a:lnTo>
                    <a:pt x="6183" y="6623"/>
                  </a:lnTo>
                  <a:lnTo>
                    <a:pt x="6177" y="6604"/>
                  </a:lnTo>
                  <a:lnTo>
                    <a:pt x="6171" y="6583"/>
                  </a:lnTo>
                  <a:lnTo>
                    <a:pt x="6165" y="6563"/>
                  </a:lnTo>
                  <a:lnTo>
                    <a:pt x="6160" y="6545"/>
                  </a:lnTo>
                  <a:lnTo>
                    <a:pt x="6154" y="6529"/>
                  </a:lnTo>
                  <a:lnTo>
                    <a:pt x="6149" y="6517"/>
                  </a:lnTo>
                  <a:lnTo>
                    <a:pt x="6142" y="6490"/>
                  </a:lnTo>
                  <a:lnTo>
                    <a:pt x="6137" y="6455"/>
                  </a:lnTo>
                  <a:lnTo>
                    <a:pt x="6136" y="6420"/>
                  </a:lnTo>
                  <a:lnTo>
                    <a:pt x="6136" y="6394"/>
                  </a:lnTo>
                  <a:lnTo>
                    <a:pt x="6135" y="6367"/>
                  </a:lnTo>
                  <a:lnTo>
                    <a:pt x="6129" y="6329"/>
                  </a:lnTo>
                  <a:lnTo>
                    <a:pt x="6124" y="6290"/>
                  </a:lnTo>
                  <a:lnTo>
                    <a:pt x="6122" y="6260"/>
                  </a:lnTo>
                  <a:lnTo>
                    <a:pt x="6124" y="6224"/>
                  </a:lnTo>
                  <a:lnTo>
                    <a:pt x="6128" y="6169"/>
                  </a:lnTo>
                  <a:lnTo>
                    <a:pt x="6129" y="6113"/>
                  </a:lnTo>
                  <a:lnTo>
                    <a:pt x="6123" y="6073"/>
                  </a:lnTo>
                  <a:lnTo>
                    <a:pt x="6118" y="6058"/>
                  </a:lnTo>
                  <a:lnTo>
                    <a:pt x="6114" y="6044"/>
                  </a:lnTo>
                  <a:lnTo>
                    <a:pt x="6109" y="6028"/>
                  </a:lnTo>
                  <a:lnTo>
                    <a:pt x="6105" y="6012"/>
                  </a:lnTo>
                  <a:lnTo>
                    <a:pt x="6102" y="5996"/>
                  </a:lnTo>
                  <a:lnTo>
                    <a:pt x="6097" y="5982"/>
                  </a:lnTo>
                  <a:lnTo>
                    <a:pt x="6093" y="5970"/>
                  </a:lnTo>
                  <a:lnTo>
                    <a:pt x="6088" y="5961"/>
                  </a:lnTo>
                  <a:lnTo>
                    <a:pt x="6083" y="5954"/>
                  </a:lnTo>
                  <a:lnTo>
                    <a:pt x="6077" y="5945"/>
                  </a:lnTo>
                  <a:lnTo>
                    <a:pt x="6070" y="5936"/>
                  </a:lnTo>
                  <a:lnTo>
                    <a:pt x="6064" y="5925"/>
                  </a:lnTo>
                  <a:lnTo>
                    <a:pt x="6058" y="5912"/>
                  </a:lnTo>
                  <a:lnTo>
                    <a:pt x="6054" y="5898"/>
                  </a:lnTo>
                  <a:lnTo>
                    <a:pt x="6049" y="5879"/>
                  </a:lnTo>
                  <a:lnTo>
                    <a:pt x="6045" y="5858"/>
                  </a:lnTo>
                  <a:lnTo>
                    <a:pt x="6040" y="5813"/>
                  </a:lnTo>
                  <a:lnTo>
                    <a:pt x="6033" y="5771"/>
                  </a:lnTo>
                  <a:lnTo>
                    <a:pt x="6027" y="5737"/>
                  </a:lnTo>
                  <a:lnTo>
                    <a:pt x="6023" y="5714"/>
                  </a:lnTo>
                  <a:lnTo>
                    <a:pt x="6021" y="5683"/>
                  </a:lnTo>
                  <a:lnTo>
                    <a:pt x="6015" y="5634"/>
                  </a:lnTo>
                  <a:lnTo>
                    <a:pt x="6007" y="5586"/>
                  </a:lnTo>
                  <a:lnTo>
                    <a:pt x="5997" y="5556"/>
                  </a:lnTo>
                  <a:lnTo>
                    <a:pt x="5988" y="5533"/>
                  </a:lnTo>
                  <a:lnTo>
                    <a:pt x="5981" y="5498"/>
                  </a:lnTo>
                  <a:lnTo>
                    <a:pt x="5976" y="5463"/>
                  </a:lnTo>
                  <a:lnTo>
                    <a:pt x="5975" y="5430"/>
                  </a:lnTo>
                  <a:lnTo>
                    <a:pt x="5971" y="5420"/>
                  </a:lnTo>
                  <a:lnTo>
                    <a:pt x="5964" y="5395"/>
                  </a:lnTo>
                  <a:lnTo>
                    <a:pt x="5956" y="5365"/>
                  </a:lnTo>
                  <a:lnTo>
                    <a:pt x="5950" y="5338"/>
                  </a:lnTo>
                  <a:lnTo>
                    <a:pt x="5946" y="5310"/>
                  </a:lnTo>
                  <a:lnTo>
                    <a:pt x="5941" y="5276"/>
                  </a:lnTo>
                  <a:lnTo>
                    <a:pt x="5936" y="5246"/>
                  </a:lnTo>
                  <a:lnTo>
                    <a:pt x="5934" y="5225"/>
                  </a:lnTo>
                  <a:lnTo>
                    <a:pt x="5931" y="5199"/>
                  </a:lnTo>
                  <a:lnTo>
                    <a:pt x="5924" y="5161"/>
                  </a:lnTo>
                  <a:lnTo>
                    <a:pt x="5919" y="5122"/>
                  </a:lnTo>
                  <a:lnTo>
                    <a:pt x="5917" y="5095"/>
                  </a:lnTo>
                  <a:lnTo>
                    <a:pt x="5909" y="5083"/>
                  </a:lnTo>
                  <a:lnTo>
                    <a:pt x="5901" y="5067"/>
                  </a:lnTo>
                  <a:lnTo>
                    <a:pt x="5894" y="5047"/>
                  </a:lnTo>
                  <a:lnTo>
                    <a:pt x="5888" y="5026"/>
                  </a:lnTo>
                  <a:lnTo>
                    <a:pt x="5882" y="5004"/>
                  </a:lnTo>
                  <a:lnTo>
                    <a:pt x="5879" y="4984"/>
                  </a:lnTo>
                  <a:lnTo>
                    <a:pt x="5876" y="4965"/>
                  </a:lnTo>
                  <a:lnTo>
                    <a:pt x="5876" y="4950"/>
                  </a:lnTo>
                  <a:lnTo>
                    <a:pt x="5877" y="4914"/>
                  </a:lnTo>
                  <a:lnTo>
                    <a:pt x="5879" y="4862"/>
                  </a:lnTo>
                  <a:lnTo>
                    <a:pt x="5881" y="4810"/>
                  </a:lnTo>
                  <a:lnTo>
                    <a:pt x="5886" y="4770"/>
                  </a:lnTo>
                  <a:lnTo>
                    <a:pt x="5888" y="4734"/>
                  </a:lnTo>
                  <a:lnTo>
                    <a:pt x="5884" y="4682"/>
                  </a:lnTo>
                  <a:lnTo>
                    <a:pt x="5875" y="4620"/>
                  </a:lnTo>
                  <a:lnTo>
                    <a:pt x="5857" y="4553"/>
                  </a:lnTo>
                  <a:lnTo>
                    <a:pt x="5847" y="4519"/>
                  </a:lnTo>
                  <a:lnTo>
                    <a:pt x="5835" y="4485"/>
                  </a:lnTo>
                  <a:lnTo>
                    <a:pt x="5824" y="4451"/>
                  </a:lnTo>
                  <a:lnTo>
                    <a:pt x="5813" y="4416"/>
                  </a:lnTo>
                  <a:lnTo>
                    <a:pt x="5802" y="4382"/>
                  </a:lnTo>
                  <a:lnTo>
                    <a:pt x="5790" y="4349"/>
                  </a:lnTo>
                  <a:lnTo>
                    <a:pt x="5780" y="4316"/>
                  </a:lnTo>
                  <a:lnTo>
                    <a:pt x="5769" y="4285"/>
                  </a:lnTo>
                  <a:lnTo>
                    <a:pt x="5754" y="4230"/>
                  </a:lnTo>
                  <a:lnTo>
                    <a:pt x="5746" y="4180"/>
                  </a:lnTo>
                  <a:lnTo>
                    <a:pt x="5741" y="4133"/>
                  </a:lnTo>
                  <a:lnTo>
                    <a:pt x="5740" y="4087"/>
                  </a:lnTo>
                  <a:lnTo>
                    <a:pt x="5736" y="4042"/>
                  </a:lnTo>
                  <a:lnTo>
                    <a:pt x="5729" y="4003"/>
                  </a:lnTo>
                  <a:lnTo>
                    <a:pt x="5720" y="3970"/>
                  </a:lnTo>
                  <a:lnTo>
                    <a:pt x="5710" y="3943"/>
                  </a:lnTo>
                  <a:lnTo>
                    <a:pt x="5701" y="3903"/>
                  </a:lnTo>
                  <a:lnTo>
                    <a:pt x="5692" y="3839"/>
                  </a:lnTo>
                  <a:lnTo>
                    <a:pt x="5685" y="3774"/>
                  </a:lnTo>
                  <a:lnTo>
                    <a:pt x="5680" y="3728"/>
                  </a:lnTo>
                  <a:lnTo>
                    <a:pt x="5676" y="3685"/>
                  </a:lnTo>
                  <a:lnTo>
                    <a:pt x="5669" y="3627"/>
                  </a:lnTo>
                  <a:lnTo>
                    <a:pt x="5659" y="3568"/>
                  </a:lnTo>
                  <a:lnTo>
                    <a:pt x="5648" y="3519"/>
                  </a:lnTo>
                  <a:lnTo>
                    <a:pt x="5642" y="3480"/>
                  </a:lnTo>
                  <a:lnTo>
                    <a:pt x="5642" y="3445"/>
                  </a:lnTo>
                  <a:lnTo>
                    <a:pt x="5646" y="3416"/>
                  </a:lnTo>
                  <a:lnTo>
                    <a:pt x="5649" y="3397"/>
                  </a:lnTo>
                  <a:lnTo>
                    <a:pt x="5634" y="3296"/>
                  </a:lnTo>
                  <a:lnTo>
                    <a:pt x="5635" y="3277"/>
                  </a:lnTo>
                  <a:lnTo>
                    <a:pt x="5634" y="3252"/>
                  </a:lnTo>
                  <a:lnTo>
                    <a:pt x="5629" y="3226"/>
                  </a:lnTo>
                  <a:lnTo>
                    <a:pt x="5623" y="3198"/>
                  </a:lnTo>
                  <a:lnTo>
                    <a:pt x="5616" y="3169"/>
                  </a:lnTo>
                  <a:lnTo>
                    <a:pt x="5609" y="3141"/>
                  </a:lnTo>
                  <a:lnTo>
                    <a:pt x="5603" y="3114"/>
                  </a:lnTo>
                  <a:lnTo>
                    <a:pt x="5599" y="3088"/>
                  </a:lnTo>
                  <a:lnTo>
                    <a:pt x="5594" y="3059"/>
                  </a:lnTo>
                  <a:lnTo>
                    <a:pt x="5589" y="3021"/>
                  </a:lnTo>
                  <a:lnTo>
                    <a:pt x="5583" y="2976"/>
                  </a:lnTo>
                  <a:lnTo>
                    <a:pt x="5578" y="2930"/>
                  </a:lnTo>
                  <a:lnTo>
                    <a:pt x="5572" y="2886"/>
                  </a:lnTo>
                  <a:lnTo>
                    <a:pt x="5566" y="2845"/>
                  </a:lnTo>
                  <a:lnTo>
                    <a:pt x="5560" y="2815"/>
                  </a:lnTo>
                  <a:lnTo>
                    <a:pt x="5555" y="2795"/>
                  </a:lnTo>
                  <a:lnTo>
                    <a:pt x="5548" y="2757"/>
                  </a:lnTo>
                  <a:lnTo>
                    <a:pt x="5543" y="2699"/>
                  </a:lnTo>
                  <a:lnTo>
                    <a:pt x="5541" y="2641"/>
                  </a:lnTo>
                  <a:lnTo>
                    <a:pt x="5541" y="2597"/>
                  </a:lnTo>
                  <a:lnTo>
                    <a:pt x="5540" y="2578"/>
                  </a:lnTo>
                  <a:lnTo>
                    <a:pt x="5535" y="2554"/>
                  </a:lnTo>
                  <a:lnTo>
                    <a:pt x="5528" y="2527"/>
                  </a:lnTo>
                  <a:lnTo>
                    <a:pt x="5519" y="2497"/>
                  </a:lnTo>
                  <a:lnTo>
                    <a:pt x="5509" y="2468"/>
                  </a:lnTo>
                  <a:lnTo>
                    <a:pt x="5501" y="2441"/>
                  </a:lnTo>
                  <a:lnTo>
                    <a:pt x="5493" y="2416"/>
                  </a:lnTo>
                  <a:lnTo>
                    <a:pt x="5486" y="2398"/>
                  </a:lnTo>
                  <a:lnTo>
                    <a:pt x="5480" y="2381"/>
                  </a:lnTo>
                  <a:lnTo>
                    <a:pt x="5472" y="2359"/>
                  </a:lnTo>
                  <a:lnTo>
                    <a:pt x="5465" y="2336"/>
                  </a:lnTo>
                  <a:lnTo>
                    <a:pt x="5456" y="2312"/>
                  </a:lnTo>
                  <a:lnTo>
                    <a:pt x="5449" y="2289"/>
                  </a:lnTo>
                  <a:lnTo>
                    <a:pt x="5444" y="2267"/>
                  </a:lnTo>
                  <a:lnTo>
                    <a:pt x="5440" y="2250"/>
                  </a:lnTo>
                  <a:lnTo>
                    <a:pt x="5438" y="2238"/>
                  </a:lnTo>
                  <a:lnTo>
                    <a:pt x="5433" y="2211"/>
                  </a:lnTo>
                  <a:lnTo>
                    <a:pt x="5425" y="2174"/>
                  </a:lnTo>
                  <a:lnTo>
                    <a:pt x="5415" y="2138"/>
                  </a:lnTo>
                  <a:lnTo>
                    <a:pt x="5405" y="2119"/>
                  </a:lnTo>
                  <a:lnTo>
                    <a:pt x="5399" y="2110"/>
                  </a:lnTo>
                  <a:lnTo>
                    <a:pt x="5393" y="2094"/>
                  </a:lnTo>
                  <a:lnTo>
                    <a:pt x="5386" y="2075"/>
                  </a:lnTo>
                  <a:lnTo>
                    <a:pt x="5379" y="2051"/>
                  </a:lnTo>
                  <a:lnTo>
                    <a:pt x="5371" y="2028"/>
                  </a:lnTo>
                  <a:lnTo>
                    <a:pt x="5361" y="2007"/>
                  </a:lnTo>
                  <a:lnTo>
                    <a:pt x="5352" y="1990"/>
                  </a:lnTo>
                  <a:lnTo>
                    <a:pt x="5342" y="1980"/>
                  </a:lnTo>
                  <a:lnTo>
                    <a:pt x="5338" y="1951"/>
                  </a:lnTo>
                  <a:lnTo>
                    <a:pt x="5330" y="1904"/>
                  </a:lnTo>
                  <a:lnTo>
                    <a:pt x="5321" y="1855"/>
                  </a:lnTo>
                  <a:lnTo>
                    <a:pt x="5317" y="1818"/>
                  </a:lnTo>
                  <a:lnTo>
                    <a:pt x="5314" y="1803"/>
                  </a:lnTo>
                  <a:lnTo>
                    <a:pt x="5310" y="1783"/>
                  </a:lnTo>
                  <a:lnTo>
                    <a:pt x="5305" y="1760"/>
                  </a:lnTo>
                  <a:lnTo>
                    <a:pt x="5299" y="1735"/>
                  </a:lnTo>
                  <a:lnTo>
                    <a:pt x="5293" y="1712"/>
                  </a:lnTo>
                  <a:lnTo>
                    <a:pt x="5287" y="1690"/>
                  </a:lnTo>
                  <a:lnTo>
                    <a:pt x="5282" y="1673"/>
                  </a:lnTo>
                  <a:lnTo>
                    <a:pt x="5278" y="1660"/>
                  </a:lnTo>
                  <a:lnTo>
                    <a:pt x="5274" y="1638"/>
                  </a:lnTo>
                  <a:lnTo>
                    <a:pt x="5273" y="1610"/>
                  </a:lnTo>
                  <a:lnTo>
                    <a:pt x="5273" y="1583"/>
                  </a:lnTo>
                  <a:lnTo>
                    <a:pt x="5268" y="1564"/>
                  </a:lnTo>
                  <a:lnTo>
                    <a:pt x="5260" y="1539"/>
                  </a:lnTo>
                  <a:lnTo>
                    <a:pt x="5251" y="1501"/>
                  </a:lnTo>
                  <a:lnTo>
                    <a:pt x="5243" y="1462"/>
                  </a:lnTo>
                  <a:lnTo>
                    <a:pt x="5239" y="1432"/>
                  </a:lnTo>
                  <a:lnTo>
                    <a:pt x="5240" y="1403"/>
                  </a:lnTo>
                  <a:lnTo>
                    <a:pt x="5245" y="1365"/>
                  </a:lnTo>
                  <a:lnTo>
                    <a:pt x="5250" y="1328"/>
                  </a:lnTo>
                  <a:lnTo>
                    <a:pt x="5253" y="1304"/>
                  </a:lnTo>
                  <a:lnTo>
                    <a:pt x="5243" y="1277"/>
                  </a:lnTo>
                  <a:lnTo>
                    <a:pt x="5233" y="1240"/>
                  </a:lnTo>
                  <a:lnTo>
                    <a:pt x="5225" y="1200"/>
                  </a:lnTo>
                  <a:lnTo>
                    <a:pt x="5220" y="1158"/>
                  </a:lnTo>
                  <a:lnTo>
                    <a:pt x="5218" y="1137"/>
                  </a:lnTo>
                  <a:lnTo>
                    <a:pt x="5212" y="1118"/>
                  </a:lnTo>
                  <a:lnTo>
                    <a:pt x="5205" y="1098"/>
                  </a:lnTo>
                  <a:lnTo>
                    <a:pt x="5197" y="1078"/>
                  </a:lnTo>
                  <a:lnTo>
                    <a:pt x="5190" y="1061"/>
                  </a:lnTo>
                  <a:lnTo>
                    <a:pt x="5183" y="1044"/>
                  </a:lnTo>
                  <a:lnTo>
                    <a:pt x="5179" y="1029"/>
                  </a:lnTo>
                  <a:lnTo>
                    <a:pt x="5178" y="1016"/>
                  </a:lnTo>
                  <a:lnTo>
                    <a:pt x="5178" y="994"/>
                  </a:lnTo>
                  <a:lnTo>
                    <a:pt x="5175" y="975"/>
                  </a:lnTo>
                  <a:lnTo>
                    <a:pt x="5173" y="962"/>
                  </a:lnTo>
                  <a:lnTo>
                    <a:pt x="5174" y="948"/>
                  </a:lnTo>
                  <a:lnTo>
                    <a:pt x="5177" y="921"/>
                  </a:lnTo>
                  <a:lnTo>
                    <a:pt x="5178" y="877"/>
                  </a:lnTo>
                  <a:lnTo>
                    <a:pt x="5178" y="832"/>
                  </a:lnTo>
                  <a:lnTo>
                    <a:pt x="5180" y="803"/>
                  </a:lnTo>
                  <a:lnTo>
                    <a:pt x="5179" y="788"/>
                  </a:lnTo>
                  <a:lnTo>
                    <a:pt x="5177" y="765"/>
                  </a:lnTo>
                  <a:lnTo>
                    <a:pt x="5171" y="735"/>
                  </a:lnTo>
                  <a:lnTo>
                    <a:pt x="5164" y="702"/>
                  </a:lnTo>
                  <a:lnTo>
                    <a:pt x="5156" y="668"/>
                  </a:lnTo>
                  <a:lnTo>
                    <a:pt x="5146" y="635"/>
                  </a:lnTo>
                  <a:lnTo>
                    <a:pt x="5138" y="607"/>
                  </a:lnTo>
                  <a:lnTo>
                    <a:pt x="5130" y="585"/>
                  </a:lnTo>
                  <a:lnTo>
                    <a:pt x="5118" y="549"/>
                  </a:lnTo>
                  <a:lnTo>
                    <a:pt x="5112" y="515"/>
                  </a:lnTo>
                  <a:lnTo>
                    <a:pt x="5111" y="486"/>
                  </a:lnTo>
                  <a:lnTo>
                    <a:pt x="5111" y="467"/>
                  </a:lnTo>
                  <a:lnTo>
                    <a:pt x="5108" y="448"/>
                  </a:lnTo>
                  <a:lnTo>
                    <a:pt x="5103" y="423"/>
                  </a:lnTo>
                  <a:lnTo>
                    <a:pt x="5097" y="391"/>
                  </a:lnTo>
                  <a:lnTo>
                    <a:pt x="5096" y="350"/>
                  </a:lnTo>
                  <a:lnTo>
                    <a:pt x="5094" y="327"/>
                  </a:lnTo>
                  <a:lnTo>
                    <a:pt x="5091" y="303"/>
                  </a:lnTo>
                  <a:lnTo>
                    <a:pt x="5085" y="277"/>
                  </a:lnTo>
                  <a:lnTo>
                    <a:pt x="5078" y="250"/>
                  </a:lnTo>
                  <a:lnTo>
                    <a:pt x="5070" y="223"/>
                  </a:lnTo>
                  <a:lnTo>
                    <a:pt x="5061" y="197"/>
                  </a:lnTo>
                  <a:lnTo>
                    <a:pt x="5056" y="174"/>
                  </a:lnTo>
                  <a:lnTo>
                    <a:pt x="5052" y="152"/>
                  </a:lnTo>
                  <a:lnTo>
                    <a:pt x="5050" y="131"/>
                  </a:lnTo>
                  <a:lnTo>
                    <a:pt x="5045" y="109"/>
                  </a:lnTo>
                  <a:lnTo>
                    <a:pt x="5039" y="87"/>
                  </a:lnTo>
                  <a:lnTo>
                    <a:pt x="5032" y="65"/>
                  </a:lnTo>
                  <a:lnTo>
                    <a:pt x="5024" y="45"/>
                  </a:lnTo>
                  <a:lnTo>
                    <a:pt x="5016" y="27"/>
                  </a:lnTo>
                  <a:lnTo>
                    <a:pt x="5009" y="11"/>
                  </a:lnTo>
                  <a:lnTo>
                    <a:pt x="5001" y="0"/>
                  </a:lnTo>
                  <a:lnTo>
                    <a:pt x="4979" y="2"/>
                  </a:lnTo>
                  <a:lnTo>
                    <a:pt x="4958" y="4"/>
                  </a:lnTo>
                  <a:lnTo>
                    <a:pt x="4939" y="6"/>
                  </a:lnTo>
                  <a:lnTo>
                    <a:pt x="4923" y="7"/>
                  </a:lnTo>
                  <a:lnTo>
                    <a:pt x="4907" y="10"/>
                  </a:lnTo>
                  <a:lnTo>
                    <a:pt x="4892" y="11"/>
                  </a:lnTo>
                  <a:lnTo>
                    <a:pt x="4879" y="11"/>
                  </a:lnTo>
                  <a:lnTo>
                    <a:pt x="4867" y="11"/>
                  </a:lnTo>
                  <a:lnTo>
                    <a:pt x="4856" y="11"/>
                  </a:lnTo>
                  <a:lnTo>
                    <a:pt x="4845" y="11"/>
                  </a:lnTo>
                  <a:lnTo>
                    <a:pt x="4835" y="11"/>
                  </a:lnTo>
                  <a:lnTo>
                    <a:pt x="4825" y="11"/>
                  </a:lnTo>
                  <a:lnTo>
                    <a:pt x="4815" y="11"/>
                  </a:lnTo>
                  <a:lnTo>
                    <a:pt x="4805" y="12"/>
                  </a:lnTo>
                  <a:lnTo>
                    <a:pt x="4796" y="13"/>
                  </a:lnTo>
                  <a:lnTo>
                    <a:pt x="4786" y="15"/>
                  </a:lnTo>
                  <a:lnTo>
                    <a:pt x="4773" y="17"/>
                  </a:lnTo>
                  <a:lnTo>
                    <a:pt x="4756" y="22"/>
                  </a:lnTo>
                  <a:lnTo>
                    <a:pt x="4735" y="28"/>
                  </a:lnTo>
                  <a:lnTo>
                    <a:pt x="4711" y="34"/>
                  </a:lnTo>
                  <a:lnTo>
                    <a:pt x="4688" y="42"/>
                  </a:lnTo>
                  <a:lnTo>
                    <a:pt x="4666" y="48"/>
                  </a:lnTo>
                  <a:lnTo>
                    <a:pt x="4649" y="54"/>
                  </a:lnTo>
                  <a:lnTo>
                    <a:pt x="4637" y="60"/>
                  </a:lnTo>
                  <a:lnTo>
                    <a:pt x="4626" y="66"/>
                  </a:lnTo>
                  <a:lnTo>
                    <a:pt x="4614" y="71"/>
                  </a:lnTo>
                  <a:lnTo>
                    <a:pt x="4599" y="77"/>
                  </a:lnTo>
                  <a:lnTo>
                    <a:pt x="4583" y="82"/>
                  </a:lnTo>
                  <a:lnTo>
                    <a:pt x="4568" y="87"/>
                  </a:lnTo>
                  <a:lnTo>
                    <a:pt x="4554" y="91"/>
                  </a:lnTo>
                  <a:lnTo>
                    <a:pt x="4542" y="94"/>
                  </a:lnTo>
                  <a:lnTo>
                    <a:pt x="4532" y="97"/>
                  </a:lnTo>
                  <a:lnTo>
                    <a:pt x="4524" y="99"/>
                  </a:lnTo>
                  <a:lnTo>
                    <a:pt x="4514" y="102"/>
                  </a:lnTo>
                  <a:lnTo>
                    <a:pt x="4501" y="105"/>
                  </a:lnTo>
                  <a:lnTo>
                    <a:pt x="4488" y="108"/>
                  </a:lnTo>
                  <a:lnTo>
                    <a:pt x="4474" y="110"/>
                  </a:lnTo>
                  <a:lnTo>
                    <a:pt x="4461" y="113"/>
                  </a:lnTo>
                  <a:lnTo>
                    <a:pt x="4448" y="113"/>
                  </a:lnTo>
                  <a:lnTo>
                    <a:pt x="4436" y="113"/>
                  </a:lnTo>
                  <a:lnTo>
                    <a:pt x="4424" y="112"/>
                  </a:lnTo>
                  <a:lnTo>
                    <a:pt x="4411" y="112"/>
                  </a:lnTo>
                  <a:lnTo>
                    <a:pt x="4397" y="110"/>
                  </a:lnTo>
                  <a:lnTo>
                    <a:pt x="4383" y="109"/>
                  </a:lnTo>
                  <a:lnTo>
                    <a:pt x="4370" y="109"/>
                  </a:lnTo>
                  <a:lnTo>
                    <a:pt x="4358" y="108"/>
                  </a:lnTo>
                  <a:lnTo>
                    <a:pt x="4348" y="107"/>
                  </a:lnTo>
                  <a:lnTo>
                    <a:pt x="4341" y="105"/>
                  </a:lnTo>
                  <a:lnTo>
                    <a:pt x="4335" y="104"/>
                  </a:lnTo>
                  <a:lnTo>
                    <a:pt x="4327" y="104"/>
                  </a:lnTo>
                  <a:lnTo>
                    <a:pt x="4317" y="104"/>
                  </a:lnTo>
                  <a:lnTo>
                    <a:pt x="4308" y="104"/>
                  </a:lnTo>
                  <a:lnTo>
                    <a:pt x="4297" y="105"/>
                  </a:lnTo>
                  <a:lnTo>
                    <a:pt x="4289" y="107"/>
                  </a:lnTo>
                  <a:lnTo>
                    <a:pt x="4281" y="108"/>
                  </a:lnTo>
                  <a:lnTo>
                    <a:pt x="4275" y="109"/>
                  </a:lnTo>
                  <a:lnTo>
                    <a:pt x="4267" y="113"/>
                  </a:lnTo>
                  <a:lnTo>
                    <a:pt x="4255" y="119"/>
                  </a:lnTo>
                  <a:lnTo>
                    <a:pt x="4238" y="126"/>
                  </a:lnTo>
                  <a:lnTo>
                    <a:pt x="4220" y="135"/>
                  </a:lnTo>
                  <a:lnTo>
                    <a:pt x="4201" y="143"/>
                  </a:lnTo>
                  <a:lnTo>
                    <a:pt x="4182" y="151"/>
                  </a:lnTo>
                  <a:lnTo>
                    <a:pt x="4166" y="157"/>
                  </a:lnTo>
                  <a:lnTo>
                    <a:pt x="4151" y="161"/>
                  </a:lnTo>
                  <a:lnTo>
                    <a:pt x="4139" y="163"/>
                  </a:lnTo>
                  <a:lnTo>
                    <a:pt x="4124" y="165"/>
                  </a:lnTo>
                  <a:lnTo>
                    <a:pt x="4109" y="169"/>
                  </a:lnTo>
                  <a:lnTo>
                    <a:pt x="4094" y="173"/>
                  </a:lnTo>
                  <a:lnTo>
                    <a:pt x="4079" y="176"/>
                  </a:lnTo>
                  <a:lnTo>
                    <a:pt x="4064" y="180"/>
                  </a:lnTo>
                  <a:lnTo>
                    <a:pt x="4053" y="184"/>
                  </a:lnTo>
                  <a:lnTo>
                    <a:pt x="4045" y="186"/>
                  </a:lnTo>
                  <a:lnTo>
                    <a:pt x="4035" y="189"/>
                  </a:lnTo>
                  <a:lnTo>
                    <a:pt x="4020" y="194"/>
                  </a:lnTo>
                  <a:lnTo>
                    <a:pt x="4002" y="199"/>
                  </a:lnTo>
                  <a:lnTo>
                    <a:pt x="3983" y="203"/>
                  </a:lnTo>
                  <a:lnTo>
                    <a:pt x="3962" y="208"/>
                  </a:lnTo>
                  <a:lnTo>
                    <a:pt x="3943" y="212"/>
                  </a:lnTo>
                  <a:lnTo>
                    <a:pt x="3927" y="216"/>
                  </a:lnTo>
                  <a:lnTo>
                    <a:pt x="3914" y="218"/>
                  </a:lnTo>
                  <a:lnTo>
                    <a:pt x="3907" y="219"/>
                  </a:lnTo>
                  <a:lnTo>
                    <a:pt x="3899" y="221"/>
                  </a:lnTo>
                  <a:lnTo>
                    <a:pt x="3888" y="224"/>
                  </a:lnTo>
                  <a:lnTo>
                    <a:pt x="3875" y="228"/>
                  </a:lnTo>
                  <a:lnTo>
                    <a:pt x="3861" y="232"/>
                  </a:lnTo>
                  <a:lnTo>
                    <a:pt x="3846" y="236"/>
                  </a:lnTo>
                  <a:lnTo>
                    <a:pt x="3831" y="240"/>
                  </a:lnTo>
                  <a:lnTo>
                    <a:pt x="3814" y="246"/>
                  </a:lnTo>
                  <a:lnTo>
                    <a:pt x="3799" y="251"/>
                  </a:lnTo>
                  <a:lnTo>
                    <a:pt x="3782" y="256"/>
                  </a:lnTo>
                  <a:lnTo>
                    <a:pt x="3767" y="261"/>
                  </a:lnTo>
                  <a:lnTo>
                    <a:pt x="3753" y="266"/>
                  </a:lnTo>
                  <a:lnTo>
                    <a:pt x="3740" y="270"/>
                  </a:lnTo>
                  <a:lnTo>
                    <a:pt x="3729" y="273"/>
                  </a:lnTo>
                  <a:lnTo>
                    <a:pt x="3720" y="276"/>
                  </a:lnTo>
                  <a:lnTo>
                    <a:pt x="3713" y="278"/>
                  </a:lnTo>
                  <a:lnTo>
                    <a:pt x="3699" y="282"/>
                  </a:lnTo>
                  <a:lnTo>
                    <a:pt x="3679" y="288"/>
                  </a:lnTo>
                  <a:lnTo>
                    <a:pt x="3655" y="295"/>
                  </a:lnTo>
                  <a:lnTo>
                    <a:pt x="3629" y="301"/>
                  </a:lnTo>
                  <a:lnTo>
                    <a:pt x="3602" y="309"/>
                  </a:lnTo>
                  <a:lnTo>
                    <a:pt x="3578" y="315"/>
                  </a:lnTo>
                  <a:lnTo>
                    <a:pt x="3554" y="320"/>
                  </a:lnTo>
                  <a:lnTo>
                    <a:pt x="3537" y="322"/>
                  </a:lnTo>
                  <a:lnTo>
                    <a:pt x="3527" y="322"/>
                  </a:lnTo>
                  <a:lnTo>
                    <a:pt x="3517" y="323"/>
                  </a:lnTo>
                  <a:lnTo>
                    <a:pt x="3503" y="325"/>
                  </a:lnTo>
                  <a:lnTo>
                    <a:pt x="3488" y="325"/>
                  </a:lnTo>
                  <a:lnTo>
                    <a:pt x="3473" y="326"/>
                  </a:lnTo>
                  <a:lnTo>
                    <a:pt x="3457" y="327"/>
                  </a:lnTo>
                  <a:lnTo>
                    <a:pt x="3439" y="328"/>
                  </a:lnTo>
                  <a:lnTo>
                    <a:pt x="3423" y="330"/>
                  </a:lnTo>
                  <a:lnTo>
                    <a:pt x="3405" y="332"/>
                  </a:lnTo>
                  <a:lnTo>
                    <a:pt x="3388" y="333"/>
                  </a:lnTo>
                  <a:lnTo>
                    <a:pt x="3373" y="335"/>
                  </a:lnTo>
                  <a:lnTo>
                    <a:pt x="3359" y="336"/>
                  </a:lnTo>
                  <a:lnTo>
                    <a:pt x="3347" y="337"/>
                  </a:lnTo>
                  <a:lnTo>
                    <a:pt x="3337" y="339"/>
                  </a:lnTo>
                  <a:lnTo>
                    <a:pt x="3329" y="341"/>
                  </a:lnTo>
                  <a:lnTo>
                    <a:pt x="3323" y="342"/>
                  </a:lnTo>
                  <a:lnTo>
                    <a:pt x="3313" y="343"/>
                  </a:lnTo>
                  <a:lnTo>
                    <a:pt x="3301" y="344"/>
                  </a:lnTo>
                  <a:lnTo>
                    <a:pt x="3289" y="344"/>
                  </a:lnTo>
                  <a:lnTo>
                    <a:pt x="3276" y="344"/>
                  </a:lnTo>
                  <a:lnTo>
                    <a:pt x="3260" y="346"/>
                  </a:lnTo>
                  <a:lnTo>
                    <a:pt x="3246" y="346"/>
                  </a:lnTo>
                  <a:lnTo>
                    <a:pt x="3232" y="347"/>
                  </a:lnTo>
                  <a:lnTo>
                    <a:pt x="3218" y="348"/>
                  </a:lnTo>
                  <a:lnTo>
                    <a:pt x="3202" y="352"/>
                  </a:lnTo>
                  <a:lnTo>
                    <a:pt x="3180" y="355"/>
                  </a:lnTo>
                  <a:lnTo>
                    <a:pt x="3155" y="360"/>
                  </a:lnTo>
                  <a:lnTo>
                    <a:pt x="3129" y="365"/>
                  </a:lnTo>
                  <a:lnTo>
                    <a:pt x="3102" y="370"/>
                  </a:lnTo>
                  <a:lnTo>
                    <a:pt x="3077" y="374"/>
                  </a:lnTo>
                  <a:lnTo>
                    <a:pt x="3056" y="377"/>
                  </a:lnTo>
                  <a:lnTo>
                    <a:pt x="3039" y="379"/>
                  </a:lnTo>
                  <a:lnTo>
                    <a:pt x="3032" y="380"/>
                  </a:lnTo>
                  <a:lnTo>
                    <a:pt x="3023" y="380"/>
                  </a:lnTo>
                  <a:lnTo>
                    <a:pt x="3011" y="381"/>
                  </a:lnTo>
                  <a:lnTo>
                    <a:pt x="2998" y="384"/>
                  </a:lnTo>
                  <a:lnTo>
                    <a:pt x="2985" y="385"/>
                  </a:lnTo>
                  <a:lnTo>
                    <a:pt x="2970" y="387"/>
                  </a:lnTo>
                  <a:lnTo>
                    <a:pt x="2956" y="390"/>
                  </a:lnTo>
                  <a:lnTo>
                    <a:pt x="2941" y="392"/>
                  </a:lnTo>
                  <a:lnTo>
                    <a:pt x="2925" y="395"/>
                  </a:lnTo>
                  <a:lnTo>
                    <a:pt x="2910" y="397"/>
                  </a:lnTo>
                  <a:lnTo>
                    <a:pt x="2897" y="399"/>
                  </a:lnTo>
                  <a:lnTo>
                    <a:pt x="2884" y="403"/>
                  </a:lnTo>
                  <a:lnTo>
                    <a:pt x="2872" y="406"/>
                  </a:lnTo>
                  <a:lnTo>
                    <a:pt x="2863" y="408"/>
                  </a:lnTo>
                  <a:lnTo>
                    <a:pt x="2855" y="410"/>
                  </a:lnTo>
                  <a:lnTo>
                    <a:pt x="2849" y="413"/>
                  </a:lnTo>
                  <a:lnTo>
                    <a:pt x="2836" y="419"/>
                  </a:lnTo>
                  <a:lnTo>
                    <a:pt x="2818" y="426"/>
                  </a:lnTo>
                  <a:lnTo>
                    <a:pt x="2796" y="435"/>
                  </a:lnTo>
                  <a:lnTo>
                    <a:pt x="2771" y="445"/>
                  </a:lnTo>
                  <a:lnTo>
                    <a:pt x="2747" y="455"/>
                  </a:lnTo>
                  <a:lnTo>
                    <a:pt x="2723" y="463"/>
                  </a:lnTo>
                  <a:lnTo>
                    <a:pt x="2703" y="472"/>
                  </a:lnTo>
                  <a:lnTo>
                    <a:pt x="2689" y="477"/>
                  </a:lnTo>
                  <a:lnTo>
                    <a:pt x="2677" y="480"/>
                  </a:lnTo>
                  <a:lnTo>
                    <a:pt x="2662" y="484"/>
                  </a:lnTo>
                  <a:lnTo>
                    <a:pt x="2647" y="486"/>
                  </a:lnTo>
                  <a:lnTo>
                    <a:pt x="2630" y="489"/>
                  </a:lnTo>
                  <a:lnTo>
                    <a:pt x="2614" y="491"/>
                  </a:lnTo>
                  <a:lnTo>
                    <a:pt x="2598" y="494"/>
                  </a:lnTo>
                  <a:lnTo>
                    <a:pt x="2584" y="498"/>
                  </a:lnTo>
                  <a:lnTo>
                    <a:pt x="2573" y="501"/>
                  </a:lnTo>
                  <a:lnTo>
                    <a:pt x="2567" y="504"/>
                  </a:lnTo>
                  <a:lnTo>
                    <a:pt x="2557" y="507"/>
                  </a:lnTo>
                  <a:lnTo>
                    <a:pt x="2547" y="512"/>
                  </a:lnTo>
                  <a:lnTo>
                    <a:pt x="2535" y="517"/>
                  </a:lnTo>
                  <a:lnTo>
                    <a:pt x="2522" y="522"/>
                  </a:lnTo>
                  <a:lnTo>
                    <a:pt x="2508" y="528"/>
                  </a:lnTo>
                  <a:lnTo>
                    <a:pt x="2493" y="533"/>
                  </a:lnTo>
                  <a:lnTo>
                    <a:pt x="2477" y="539"/>
                  </a:lnTo>
                  <a:lnTo>
                    <a:pt x="2462" y="547"/>
                  </a:lnTo>
                  <a:lnTo>
                    <a:pt x="2446" y="553"/>
                  </a:lnTo>
                  <a:lnTo>
                    <a:pt x="2430" y="559"/>
                  </a:lnTo>
                  <a:lnTo>
                    <a:pt x="2416" y="564"/>
                  </a:lnTo>
                  <a:lnTo>
                    <a:pt x="2402" y="570"/>
                  </a:lnTo>
                  <a:lnTo>
                    <a:pt x="2389" y="575"/>
                  </a:lnTo>
                  <a:lnTo>
                    <a:pt x="2377" y="578"/>
                  </a:lnTo>
                  <a:lnTo>
                    <a:pt x="2368" y="582"/>
                  </a:lnTo>
                  <a:lnTo>
                    <a:pt x="2359" y="586"/>
                  </a:lnTo>
                  <a:lnTo>
                    <a:pt x="2348" y="589"/>
                  </a:lnTo>
                  <a:lnTo>
                    <a:pt x="2335" y="593"/>
                  </a:lnTo>
                  <a:lnTo>
                    <a:pt x="2323" y="597"/>
                  </a:lnTo>
                  <a:lnTo>
                    <a:pt x="2309" y="600"/>
                  </a:lnTo>
                  <a:lnTo>
                    <a:pt x="2295" y="604"/>
                  </a:lnTo>
                  <a:lnTo>
                    <a:pt x="2281" y="608"/>
                  </a:lnTo>
                  <a:lnTo>
                    <a:pt x="2266" y="611"/>
                  </a:lnTo>
                  <a:lnTo>
                    <a:pt x="2252" y="615"/>
                  </a:lnTo>
                  <a:lnTo>
                    <a:pt x="2238" y="619"/>
                  </a:lnTo>
                  <a:lnTo>
                    <a:pt x="2225" y="622"/>
                  </a:lnTo>
                  <a:lnTo>
                    <a:pt x="2212" y="625"/>
                  </a:lnTo>
                  <a:lnTo>
                    <a:pt x="2199" y="627"/>
                  </a:lnTo>
                  <a:lnTo>
                    <a:pt x="2188" y="630"/>
                  </a:lnTo>
                  <a:lnTo>
                    <a:pt x="2179" y="631"/>
                  </a:lnTo>
                  <a:lnTo>
                    <a:pt x="2170" y="632"/>
                  </a:lnTo>
                  <a:lnTo>
                    <a:pt x="2162" y="634"/>
                  </a:lnTo>
                  <a:lnTo>
                    <a:pt x="2152" y="635"/>
                  </a:lnTo>
                  <a:lnTo>
                    <a:pt x="2140" y="635"/>
                  </a:lnTo>
                  <a:lnTo>
                    <a:pt x="2126" y="636"/>
                  </a:lnTo>
                  <a:lnTo>
                    <a:pt x="2112" y="637"/>
                  </a:lnTo>
                  <a:lnTo>
                    <a:pt x="2096" y="638"/>
                  </a:lnTo>
                  <a:lnTo>
                    <a:pt x="2081" y="640"/>
                  </a:lnTo>
                  <a:lnTo>
                    <a:pt x="2065" y="640"/>
                  </a:lnTo>
                  <a:lnTo>
                    <a:pt x="2049" y="641"/>
                  </a:lnTo>
                  <a:lnTo>
                    <a:pt x="2034" y="642"/>
                  </a:lnTo>
                  <a:lnTo>
                    <a:pt x="2020" y="642"/>
                  </a:lnTo>
                  <a:lnTo>
                    <a:pt x="2006" y="643"/>
                  </a:lnTo>
                  <a:lnTo>
                    <a:pt x="1994" y="643"/>
                  </a:lnTo>
                  <a:lnTo>
                    <a:pt x="1984" y="643"/>
                  </a:lnTo>
                  <a:lnTo>
                    <a:pt x="1975" y="643"/>
                  </a:lnTo>
                  <a:lnTo>
                    <a:pt x="1968" y="643"/>
                  </a:lnTo>
                  <a:lnTo>
                    <a:pt x="1955" y="643"/>
                  </a:lnTo>
                  <a:lnTo>
                    <a:pt x="1939" y="643"/>
                  </a:lnTo>
                  <a:lnTo>
                    <a:pt x="1920" y="642"/>
                  </a:lnTo>
                  <a:lnTo>
                    <a:pt x="1900" y="642"/>
                  </a:lnTo>
                  <a:lnTo>
                    <a:pt x="1880" y="641"/>
                  </a:lnTo>
                  <a:lnTo>
                    <a:pt x="1862" y="640"/>
                  </a:lnTo>
                  <a:lnTo>
                    <a:pt x="1847" y="637"/>
                  </a:lnTo>
                  <a:lnTo>
                    <a:pt x="1835" y="634"/>
                  </a:lnTo>
                  <a:lnTo>
                    <a:pt x="1820" y="641"/>
                  </a:lnTo>
                  <a:lnTo>
                    <a:pt x="1803" y="648"/>
                  </a:lnTo>
                  <a:lnTo>
                    <a:pt x="1783" y="656"/>
                  </a:lnTo>
                  <a:lnTo>
                    <a:pt x="1763" y="662"/>
                  </a:lnTo>
                  <a:lnTo>
                    <a:pt x="1744" y="667"/>
                  </a:lnTo>
                  <a:lnTo>
                    <a:pt x="1728" y="670"/>
                  </a:lnTo>
                  <a:lnTo>
                    <a:pt x="1718" y="673"/>
                  </a:lnTo>
                  <a:lnTo>
                    <a:pt x="1714" y="674"/>
                  </a:lnTo>
                  <a:lnTo>
                    <a:pt x="1711" y="674"/>
                  </a:lnTo>
                  <a:lnTo>
                    <a:pt x="1701" y="674"/>
                  </a:lnTo>
                  <a:lnTo>
                    <a:pt x="1686" y="674"/>
                  </a:lnTo>
                  <a:lnTo>
                    <a:pt x="1670" y="674"/>
                  </a:lnTo>
                  <a:lnTo>
                    <a:pt x="1650" y="675"/>
                  </a:lnTo>
                  <a:lnTo>
                    <a:pt x="1630" y="676"/>
                  </a:lnTo>
                  <a:lnTo>
                    <a:pt x="1612" y="678"/>
                  </a:lnTo>
                  <a:lnTo>
                    <a:pt x="1596" y="681"/>
                  </a:lnTo>
                  <a:lnTo>
                    <a:pt x="1583" y="685"/>
                  </a:lnTo>
                  <a:lnTo>
                    <a:pt x="1573" y="687"/>
                  </a:lnTo>
                  <a:lnTo>
                    <a:pt x="1565" y="690"/>
                  </a:lnTo>
                  <a:lnTo>
                    <a:pt x="1558" y="692"/>
                  </a:lnTo>
                  <a:lnTo>
                    <a:pt x="1551" y="695"/>
                  </a:lnTo>
                  <a:lnTo>
                    <a:pt x="1543" y="697"/>
                  </a:lnTo>
                  <a:lnTo>
                    <a:pt x="1534" y="700"/>
                  </a:lnTo>
                  <a:lnTo>
                    <a:pt x="1523" y="701"/>
                  </a:lnTo>
                  <a:lnTo>
                    <a:pt x="1516" y="702"/>
                  </a:lnTo>
                  <a:lnTo>
                    <a:pt x="1506" y="703"/>
                  </a:lnTo>
                  <a:lnTo>
                    <a:pt x="1494" y="705"/>
                  </a:lnTo>
                  <a:lnTo>
                    <a:pt x="1483" y="707"/>
                  </a:lnTo>
                  <a:lnTo>
                    <a:pt x="1469" y="709"/>
                  </a:lnTo>
                  <a:lnTo>
                    <a:pt x="1453" y="713"/>
                  </a:lnTo>
                  <a:lnTo>
                    <a:pt x="1437" y="717"/>
                  </a:lnTo>
                  <a:lnTo>
                    <a:pt x="1420" y="721"/>
                  </a:lnTo>
                  <a:lnTo>
                    <a:pt x="1403" y="725"/>
                  </a:lnTo>
                  <a:lnTo>
                    <a:pt x="1385" y="730"/>
                  </a:lnTo>
                  <a:lnTo>
                    <a:pt x="1366" y="736"/>
                  </a:lnTo>
                  <a:lnTo>
                    <a:pt x="1348" y="743"/>
                  </a:lnTo>
                  <a:lnTo>
                    <a:pt x="1329" y="749"/>
                  </a:lnTo>
                  <a:lnTo>
                    <a:pt x="1311" y="756"/>
                  </a:lnTo>
                  <a:lnTo>
                    <a:pt x="1293" y="763"/>
                  </a:lnTo>
                  <a:lnTo>
                    <a:pt x="1276" y="772"/>
                  </a:lnTo>
                  <a:lnTo>
                    <a:pt x="1259" y="779"/>
                  </a:lnTo>
                  <a:lnTo>
                    <a:pt x="1242" y="787"/>
                  </a:lnTo>
                  <a:lnTo>
                    <a:pt x="1224" y="794"/>
                  </a:lnTo>
                  <a:lnTo>
                    <a:pt x="1206" y="799"/>
                  </a:lnTo>
                  <a:lnTo>
                    <a:pt x="1190" y="805"/>
                  </a:lnTo>
                  <a:lnTo>
                    <a:pt x="1172" y="810"/>
                  </a:lnTo>
                  <a:lnTo>
                    <a:pt x="1156" y="814"/>
                  </a:lnTo>
                  <a:lnTo>
                    <a:pt x="1139" y="817"/>
                  </a:lnTo>
                  <a:lnTo>
                    <a:pt x="1124" y="821"/>
                  </a:lnTo>
                  <a:lnTo>
                    <a:pt x="1110" y="823"/>
                  </a:lnTo>
                  <a:lnTo>
                    <a:pt x="1097" y="826"/>
                  </a:lnTo>
                  <a:lnTo>
                    <a:pt x="1084" y="828"/>
                  </a:lnTo>
                  <a:lnTo>
                    <a:pt x="1074" y="830"/>
                  </a:lnTo>
                  <a:lnTo>
                    <a:pt x="1063" y="831"/>
                  </a:lnTo>
                  <a:lnTo>
                    <a:pt x="1055" y="832"/>
                  </a:lnTo>
                  <a:lnTo>
                    <a:pt x="1049" y="833"/>
                  </a:lnTo>
                  <a:lnTo>
                    <a:pt x="1036" y="836"/>
                  </a:lnTo>
                  <a:lnTo>
                    <a:pt x="1022" y="838"/>
                  </a:lnTo>
                  <a:lnTo>
                    <a:pt x="1007" y="841"/>
                  </a:lnTo>
                  <a:lnTo>
                    <a:pt x="991" y="844"/>
                  </a:lnTo>
                  <a:lnTo>
                    <a:pt x="976" y="849"/>
                  </a:lnTo>
                  <a:lnTo>
                    <a:pt x="961" y="854"/>
                  </a:lnTo>
                  <a:lnTo>
                    <a:pt x="948" y="860"/>
                  </a:lnTo>
                  <a:lnTo>
                    <a:pt x="937" y="868"/>
                  </a:lnTo>
                  <a:lnTo>
                    <a:pt x="923" y="874"/>
                  </a:lnTo>
                  <a:lnTo>
                    <a:pt x="902" y="877"/>
                  </a:lnTo>
                  <a:lnTo>
                    <a:pt x="877" y="879"/>
                  </a:lnTo>
                  <a:lnTo>
                    <a:pt x="849" y="877"/>
                  </a:lnTo>
                  <a:lnTo>
                    <a:pt x="821" y="875"/>
                  </a:lnTo>
                  <a:lnTo>
                    <a:pt x="794" y="872"/>
                  </a:lnTo>
                  <a:lnTo>
                    <a:pt x="773" y="871"/>
                  </a:lnTo>
                  <a:lnTo>
                    <a:pt x="757" y="869"/>
                  </a:lnTo>
                  <a:lnTo>
                    <a:pt x="744" y="869"/>
                  </a:lnTo>
                  <a:lnTo>
                    <a:pt x="727" y="870"/>
                  </a:lnTo>
                  <a:lnTo>
                    <a:pt x="707" y="871"/>
                  </a:lnTo>
                  <a:lnTo>
                    <a:pt x="686" y="875"/>
                  </a:lnTo>
                  <a:lnTo>
                    <a:pt x="663" y="877"/>
                  </a:lnTo>
                  <a:lnTo>
                    <a:pt x="641" y="880"/>
                  </a:lnTo>
                  <a:lnTo>
                    <a:pt x="621" y="882"/>
                  </a:lnTo>
                  <a:lnTo>
                    <a:pt x="605" y="882"/>
                  </a:lnTo>
                  <a:lnTo>
                    <a:pt x="596" y="882"/>
                  </a:lnTo>
                  <a:lnTo>
                    <a:pt x="587" y="883"/>
                  </a:lnTo>
                  <a:lnTo>
                    <a:pt x="576" y="885"/>
                  </a:lnTo>
                  <a:lnTo>
                    <a:pt x="563" y="887"/>
                  </a:lnTo>
                  <a:lnTo>
                    <a:pt x="552" y="891"/>
                  </a:lnTo>
                  <a:lnTo>
                    <a:pt x="538" y="893"/>
                  </a:lnTo>
                  <a:lnTo>
                    <a:pt x="525" y="897"/>
                  </a:lnTo>
                  <a:lnTo>
                    <a:pt x="510" y="901"/>
                  </a:lnTo>
                  <a:lnTo>
                    <a:pt x="495" y="904"/>
                  </a:lnTo>
                  <a:lnTo>
                    <a:pt x="481" y="907"/>
                  </a:lnTo>
                  <a:lnTo>
                    <a:pt x="467" y="910"/>
                  </a:lnTo>
                  <a:lnTo>
                    <a:pt x="454" y="913"/>
                  </a:lnTo>
                  <a:lnTo>
                    <a:pt x="441" y="915"/>
                  </a:lnTo>
                  <a:lnTo>
                    <a:pt x="429" y="917"/>
                  </a:lnTo>
                  <a:lnTo>
                    <a:pt x="418" y="918"/>
                  </a:lnTo>
                  <a:lnTo>
                    <a:pt x="408" y="918"/>
                  </a:lnTo>
                  <a:lnTo>
                    <a:pt x="398" y="918"/>
                  </a:lnTo>
                  <a:lnTo>
                    <a:pt x="387" y="917"/>
                  </a:lnTo>
                  <a:lnTo>
                    <a:pt x="374" y="918"/>
                  </a:lnTo>
                  <a:lnTo>
                    <a:pt x="361" y="918"/>
                  </a:lnTo>
                  <a:lnTo>
                    <a:pt x="346" y="919"/>
                  </a:lnTo>
                  <a:lnTo>
                    <a:pt x="331" y="920"/>
                  </a:lnTo>
                  <a:lnTo>
                    <a:pt x="315" y="923"/>
                  </a:lnTo>
                  <a:lnTo>
                    <a:pt x="300" y="925"/>
                  </a:lnTo>
                  <a:lnTo>
                    <a:pt x="284" y="929"/>
                  </a:lnTo>
                  <a:lnTo>
                    <a:pt x="267" y="933"/>
                  </a:lnTo>
                  <a:lnTo>
                    <a:pt x="252" y="937"/>
                  </a:lnTo>
                  <a:lnTo>
                    <a:pt x="237" y="944"/>
                  </a:lnTo>
                  <a:lnTo>
                    <a:pt x="221" y="950"/>
                  </a:lnTo>
                  <a:lnTo>
                    <a:pt x="207" y="956"/>
                  </a:lnTo>
                  <a:lnTo>
                    <a:pt x="193" y="964"/>
                  </a:lnTo>
                  <a:lnTo>
                    <a:pt x="181" y="973"/>
                  </a:lnTo>
                  <a:lnTo>
                    <a:pt x="151" y="972"/>
                  </a:lnTo>
                  <a:lnTo>
                    <a:pt x="130" y="984"/>
                  </a:lnTo>
                  <a:lnTo>
                    <a:pt x="113" y="983"/>
                  </a:lnTo>
                  <a:lnTo>
                    <a:pt x="112" y="984"/>
                  </a:lnTo>
                  <a:lnTo>
                    <a:pt x="108" y="986"/>
                  </a:lnTo>
                  <a:lnTo>
                    <a:pt x="103" y="990"/>
                  </a:lnTo>
                  <a:lnTo>
                    <a:pt x="97" y="994"/>
                  </a:lnTo>
                  <a:lnTo>
                    <a:pt x="88" y="997"/>
                  </a:lnTo>
                  <a:lnTo>
                    <a:pt x="81" y="1000"/>
                  </a:lnTo>
                  <a:lnTo>
                    <a:pt x="73" y="1001"/>
                  </a:lnTo>
                  <a:lnTo>
                    <a:pt x="66" y="1001"/>
                  </a:lnTo>
                  <a:lnTo>
                    <a:pt x="59" y="1000"/>
                  </a:lnTo>
                  <a:lnTo>
                    <a:pt x="51" y="1001"/>
                  </a:lnTo>
                  <a:lnTo>
                    <a:pt x="41" y="1002"/>
                  </a:lnTo>
                  <a:lnTo>
                    <a:pt x="33" y="1004"/>
                  </a:lnTo>
                  <a:lnTo>
                    <a:pt x="24" y="1005"/>
                  </a:lnTo>
                  <a:lnTo>
                    <a:pt x="16" y="1006"/>
                  </a:lnTo>
                  <a:lnTo>
                    <a:pt x="7" y="1006"/>
                  </a:lnTo>
                  <a:lnTo>
                    <a:pt x="0" y="1005"/>
                  </a:lnTo>
                  <a:lnTo>
                    <a:pt x="0" y="1042"/>
                  </a:lnTo>
                  <a:lnTo>
                    <a:pt x="0" y="1071"/>
                  </a:lnTo>
                  <a:lnTo>
                    <a:pt x="4" y="1097"/>
                  </a:lnTo>
                  <a:lnTo>
                    <a:pt x="16" y="1122"/>
                  </a:lnTo>
                  <a:lnTo>
                    <a:pt x="24" y="1135"/>
                  </a:lnTo>
                  <a:lnTo>
                    <a:pt x="32" y="1143"/>
                  </a:lnTo>
                  <a:lnTo>
                    <a:pt x="39" y="1153"/>
                  </a:lnTo>
                  <a:lnTo>
                    <a:pt x="45" y="1164"/>
                  </a:lnTo>
                  <a:lnTo>
                    <a:pt x="51" y="1178"/>
                  </a:lnTo>
                  <a:lnTo>
                    <a:pt x="57" y="1197"/>
                  </a:lnTo>
                  <a:lnTo>
                    <a:pt x="61" y="1223"/>
                  </a:lnTo>
                  <a:lnTo>
                    <a:pt x="66" y="1257"/>
                  </a:lnTo>
                  <a:lnTo>
                    <a:pt x="73" y="1323"/>
                  </a:lnTo>
                  <a:lnTo>
                    <a:pt x="77" y="1368"/>
                  </a:lnTo>
                  <a:lnTo>
                    <a:pt x="79" y="1396"/>
                  </a:lnTo>
                  <a:lnTo>
                    <a:pt x="84" y="1415"/>
                  </a:lnTo>
                  <a:lnTo>
                    <a:pt x="88" y="1440"/>
                  </a:lnTo>
                  <a:lnTo>
                    <a:pt x="93" y="1474"/>
                  </a:lnTo>
                  <a:lnTo>
                    <a:pt x="100" y="1512"/>
                  </a:lnTo>
                  <a:lnTo>
                    <a:pt x="113" y="1549"/>
                  </a:lnTo>
                  <a:lnTo>
                    <a:pt x="126" y="1586"/>
                  </a:lnTo>
                  <a:lnTo>
                    <a:pt x="133" y="1625"/>
                  </a:lnTo>
                  <a:lnTo>
                    <a:pt x="134" y="1667"/>
                  </a:lnTo>
                  <a:lnTo>
                    <a:pt x="134" y="1704"/>
                  </a:lnTo>
                  <a:lnTo>
                    <a:pt x="134" y="1745"/>
                  </a:lnTo>
                  <a:lnTo>
                    <a:pt x="137" y="1790"/>
                  </a:lnTo>
                  <a:lnTo>
                    <a:pt x="144" y="1836"/>
                  </a:lnTo>
                  <a:lnTo>
                    <a:pt x="155" y="1871"/>
                  </a:lnTo>
                  <a:lnTo>
                    <a:pt x="162" y="1885"/>
                  </a:lnTo>
                  <a:lnTo>
                    <a:pt x="168" y="1898"/>
                  </a:lnTo>
                  <a:lnTo>
                    <a:pt x="173" y="1913"/>
                  </a:lnTo>
                  <a:lnTo>
                    <a:pt x="179" y="1929"/>
                  </a:lnTo>
                  <a:lnTo>
                    <a:pt x="185" y="1950"/>
                  </a:lnTo>
                  <a:lnTo>
                    <a:pt x="193" y="1975"/>
                  </a:lnTo>
                  <a:lnTo>
                    <a:pt x="201" y="2007"/>
                  </a:lnTo>
                  <a:lnTo>
                    <a:pt x="213" y="2049"/>
                  </a:lnTo>
                  <a:lnTo>
                    <a:pt x="225" y="2092"/>
                  </a:lnTo>
                  <a:lnTo>
                    <a:pt x="237" y="2131"/>
                  </a:lnTo>
                  <a:lnTo>
                    <a:pt x="248" y="2164"/>
                  </a:lnTo>
                  <a:lnTo>
                    <a:pt x="258" y="2195"/>
                  </a:lnTo>
                  <a:lnTo>
                    <a:pt x="267" y="2222"/>
                  </a:lnTo>
                  <a:lnTo>
                    <a:pt x="274" y="2246"/>
                  </a:lnTo>
                  <a:lnTo>
                    <a:pt x="279" y="2269"/>
                  </a:lnTo>
                  <a:lnTo>
                    <a:pt x="281" y="2293"/>
                  </a:lnTo>
                  <a:lnTo>
                    <a:pt x="281" y="2328"/>
                  </a:lnTo>
                  <a:lnTo>
                    <a:pt x="277" y="2351"/>
                  </a:lnTo>
                  <a:lnTo>
                    <a:pt x="272" y="2370"/>
                  </a:lnTo>
                  <a:lnTo>
                    <a:pt x="268" y="2389"/>
                  </a:lnTo>
                  <a:lnTo>
                    <a:pt x="273" y="2408"/>
                  </a:lnTo>
                  <a:lnTo>
                    <a:pt x="279" y="2429"/>
                  </a:lnTo>
                  <a:lnTo>
                    <a:pt x="285" y="2451"/>
                  </a:lnTo>
                  <a:lnTo>
                    <a:pt x="293" y="2474"/>
                  </a:lnTo>
                  <a:lnTo>
                    <a:pt x="300" y="2497"/>
                  </a:lnTo>
                  <a:lnTo>
                    <a:pt x="308" y="2521"/>
                  </a:lnTo>
                  <a:lnTo>
                    <a:pt x="316" y="2543"/>
                  </a:lnTo>
                  <a:lnTo>
                    <a:pt x="325" y="2563"/>
                  </a:lnTo>
                  <a:lnTo>
                    <a:pt x="339" y="2598"/>
                  </a:lnTo>
                  <a:lnTo>
                    <a:pt x="349" y="2628"/>
                  </a:lnTo>
                  <a:lnTo>
                    <a:pt x="355" y="2660"/>
                  </a:lnTo>
                  <a:lnTo>
                    <a:pt x="359" y="2704"/>
                  </a:lnTo>
                  <a:lnTo>
                    <a:pt x="361" y="2733"/>
                  </a:lnTo>
                  <a:lnTo>
                    <a:pt x="365" y="2764"/>
                  </a:lnTo>
                  <a:lnTo>
                    <a:pt x="371" y="2800"/>
                  </a:lnTo>
                  <a:lnTo>
                    <a:pt x="376" y="2836"/>
                  </a:lnTo>
                  <a:lnTo>
                    <a:pt x="383" y="2872"/>
                  </a:lnTo>
                  <a:lnTo>
                    <a:pt x="391" y="2909"/>
                  </a:lnTo>
                  <a:lnTo>
                    <a:pt x="399" y="2943"/>
                  </a:lnTo>
                  <a:lnTo>
                    <a:pt x="407" y="2974"/>
                  </a:lnTo>
                  <a:lnTo>
                    <a:pt x="419" y="3030"/>
                  </a:lnTo>
                  <a:lnTo>
                    <a:pt x="425" y="3083"/>
                  </a:lnTo>
                  <a:lnTo>
                    <a:pt x="426" y="3133"/>
                  </a:lnTo>
                  <a:lnTo>
                    <a:pt x="421" y="3179"/>
                  </a:lnTo>
                  <a:lnTo>
                    <a:pt x="415" y="3220"/>
                  </a:lnTo>
                  <a:lnTo>
                    <a:pt x="411" y="3257"/>
                  </a:lnTo>
                  <a:lnTo>
                    <a:pt x="407" y="3288"/>
                  </a:lnTo>
                  <a:lnTo>
                    <a:pt x="403" y="3310"/>
                  </a:lnTo>
                  <a:lnTo>
                    <a:pt x="409" y="3324"/>
                  </a:lnTo>
                  <a:lnTo>
                    <a:pt x="416" y="3340"/>
                  </a:lnTo>
                  <a:lnTo>
                    <a:pt x="423" y="3359"/>
                  </a:lnTo>
                  <a:lnTo>
                    <a:pt x="431" y="3377"/>
                  </a:lnTo>
                  <a:lnTo>
                    <a:pt x="438" y="3395"/>
                  </a:lnTo>
                  <a:lnTo>
                    <a:pt x="445" y="3415"/>
                  </a:lnTo>
                  <a:lnTo>
                    <a:pt x="452" y="3436"/>
                  </a:lnTo>
                  <a:lnTo>
                    <a:pt x="460" y="3456"/>
                  </a:lnTo>
                  <a:lnTo>
                    <a:pt x="470" y="3503"/>
                  </a:lnTo>
                  <a:lnTo>
                    <a:pt x="472" y="3560"/>
                  </a:lnTo>
                  <a:lnTo>
                    <a:pt x="468" y="3617"/>
                  </a:lnTo>
                  <a:lnTo>
                    <a:pt x="467" y="3665"/>
                  </a:lnTo>
                  <a:lnTo>
                    <a:pt x="466" y="3719"/>
                  </a:lnTo>
                  <a:lnTo>
                    <a:pt x="461" y="3786"/>
                  </a:lnTo>
                  <a:lnTo>
                    <a:pt x="460" y="3851"/>
                  </a:lnTo>
                  <a:lnTo>
                    <a:pt x="466" y="3894"/>
                  </a:lnTo>
                  <a:lnTo>
                    <a:pt x="473" y="3910"/>
                  </a:lnTo>
                  <a:lnTo>
                    <a:pt x="481" y="3933"/>
                  </a:lnTo>
                  <a:lnTo>
                    <a:pt x="492" y="3959"/>
                  </a:lnTo>
                  <a:lnTo>
                    <a:pt x="502" y="3989"/>
                  </a:lnTo>
                  <a:lnTo>
                    <a:pt x="512" y="4018"/>
                  </a:lnTo>
                  <a:lnTo>
                    <a:pt x="520" y="4046"/>
                  </a:lnTo>
                  <a:lnTo>
                    <a:pt x="527" y="4072"/>
                  </a:lnTo>
                  <a:lnTo>
                    <a:pt x="530" y="4094"/>
                  </a:lnTo>
                  <a:lnTo>
                    <a:pt x="530" y="4141"/>
                  </a:lnTo>
                  <a:lnTo>
                    <a:pt x="529" y="4198"/>
                  </a:lnTo>
                  <a:lnTo>
                    <a:pt x="533" y="4253"/>
                  </a:lnTo>
                  <a:lnTo>
                    <a:pt x="547" y="4294"/>
                  </a:lnTo>
                  <a:lnTo>
                    <a:pt x="559" y="4308"/>
                  </a:lnTo>
                  <a:lnTo>
                    <a:pt x="569" y="4326"/>
                  </a:lnTo>
                  <a:lnTo>
                    <a:pt x="581" y="4343"/>
                  </a:lnTo>
                  <a:lnTo>
                    <a:pt x="592" y="4362"/>
                  </a:lnTo>
                  <a:lnTo>
                    <a:pt x="601" y="4383"/>
                  </a:lnTo>
                  <a:lnTo>
                    <a:pt x="609" y="4406"/>
                  </a:lnTo>
                  <a:lnTo>
                    <a:pt x="616" y="4431"/>
                  </a:lnTo>
                  <a:lnTo>
                    <a:pt x="621" y="4458"/>
                  </a:lnTo>
                  <a:lnTo>
                    <a:pt x="622" y="4517"/>
                  </a:lnTo>
                  <a:lnTo>
                    <a:pt x="616" y="4576"/>
                  </a:lnTo>
                  <a:lnTo>
                    <a:pt x="607" y="4625"/>
                  </a:lnTo>
                  <a:lnTo>
                    <a:pt x="600" y="4656"/>
                  </a:lnTo>
                  <a:lnTo>
                    <a:pt x="610" y="4678"/>
                  </a:lnTo>
                  <a:lnTo>
                    <a:pt x="620" y="4703"/>
                  </a:lnTo>
                  <a:lnTo>
                    <a:pt x="628" y="4729"/>
                  </a:lnTo>
                  <a:lnTo>
                    <a:pt x="635" y="4754"/>
                  </a:lnTo>
                  <a:lnTo>
                    <a:pt x="641" y="4778"/>
                  </a:lnTo>
                  <a:lnTo>
                    <a:pt x="644" y="4796"/>
                  </a:lnTo>
                  <a:lnTo>
                    <a:pt x="647" y="4808"/>
                  </a:lnTo>
                  <a:lnTo>
                    <a:pt x="648" y="4813"/>
                  </a:lnTo>
                  <a:lnTo>
                    <a:pt x="646" y="4827"/>
                  </a:lnTo>
                  <a:lnTo>
                    <a:pt x="641" y="4861"/>
                  </a:lnTo>
                  <a:lnTo>
                    <a:pt x="642" y="4906"/>
                  </a:lnTo>
                  <a:lnTo>
                    <a:pt x="655" y="4955"/>
                  </a:lnTo>
                  <a:lnTo>
                    <a:pt x="662" y="4976"/>
                  </a:lnTo>
                  <a:lnTo>
                    <a:pt x="663" y="4992"/>
                  </a:lnTo>
                  <a:lnTo>
                    <a:pt x="661" y="5004"/>
                  </a:lnTo>
                  <a:lnTo>
                    <a:pt x="657" y="5015"/>
                  </a:lnTo>
                  <a:lnTo>
                    <a:pt x="654" y="5026"/>
                  </a:lnTo>
                  <a:lnTo>
                    <a:pt x="652" y="5039"/>
                  </a:lnTo>
                  <a:lnTo>
                    <a:pt x="655" y="5053"/>
                  </a:lnTo>
                  <a:lnTo>
                    <a:pt x="664" y="5073"/>
                  </a:lnTo>
                  <a:lnTo>
                    <a:pt x="677" y="5095"/>
                  </a:lnTo>
                  <a:lnTo>
                    <a:pt x="690" y="5118"/>
                  </a:lnTo>
                  <a:lnTo>
                    <a:pt x="702" y="5140"/>
                  </a:lnTo>
                  <a:lnTo>
                    <a:pt x="712" y="5162"/>
                  </a:lnTo>
                  <a:lnTo>
                    <a:pt x="719" y="5185"/>
                  </a:lnTo>
                  <a:lnTo>
                    <a:pt x="724" y="5205"/>
                  </a:lnTo>
                  <a:lnTo>
                    <a:pt x="726" y="5225"/>
                  </a:lnTo>
                  <a:lnTo>
                    <a:pt x="723" y="5242"/>
                  </a:lnTo>
                  <a:lnTo>
                    <a:pt x="719" y="5258"/>
                  </a:lnTo>
                  <a:lnTo>
                    <a:pt x="715" y="5274"/>
                  </a:lnTo>
                  <a:lnTo>
                    <a:pt x="712" y="5289"/>
                  </a:lnTo>
                  <a:lnTo>
                    <a:pt x="709" y="5303"/>
                  </a:lnTo>
                  <a:lnTo>
                    <a:pt x="710" y="5318"/>
                  </a:lnTo>
                  <a:lnTo>
                    <a:pt x="713" y="5332"/>
                  </a:lnTo>
                  <a:lnTo>
                    <a:pt x="720" y="5345"/>
                  </a:lnTo>
                  <a:lnTo>
                    <a:pt x="731" y="5357"/>
                  </a:lnTo>
                  <a:lnTo>
                    <a:pt x="742" y="5371"/>
                  </a:lnTo>
                  <a:lnTo>
                    <a:pt x="749" y="5387"/>
                  </a:lnTo>
                  <a:lnTo>
                    <a:pt x="751" y="5405"/>
                  </a:lnTo>
                  <a:lnTo>
                    <a:pt x="751" y="5423"/>
                  </a:lnTo>
                  <a:lnTo>
                    <a:pt x="749" y="5443"/>
                  </a:lnTo>
                  <a:lnTo>
                    <a:pt x="746" y="5463"/>
                  </a:lnTo>
                  <a:lnTo>
                    <a:pt x="742" y="5481"/>
                  </a:lnTo>
                  <a:lnTo>
                    <a:pt x="739" y="5498"/>
                  </a:lnTo>
                  <a:lnTo>
                    <a:pt x="737" y="5519"/>
                  </a:lnTo>
                  <a:lnTo>
                    <a:pt x="737" y="5547"/>
                  </a:lnTo>
                  <a:lnTo>
                    <a:pt x="741" y="5583"/>
                  </a:lnTo>
                  <a:lnTo>
                    <a:pt x="746" y="5622"/>
                  </a:lnTo>
                  <a:lnTo>
                    <a:pt x="753" y="5662"/>
                  </a:lnTo>
                  <a:lnTo>
                    <a:pt x="761" y="5704"/>
                  </a:lnTo>
                  <a:lnTo>
                    <a:pt x="771" y="5743"/>
                  </a:lnTo>
                  <a:lnTo>
                    <a:pt x="782" y="5779"/>
                  </a:lnTo>
                  <a:lnTo>
                    <a:pt x="794" y="5813"/>
                  </a:lnTo>
                  <a:lnTo>
                    <a:pt x="807" y="5849"/>
                  </a:lnTo>
                  <a:lnTo>
                    <a:pt x="820" y="5884"/>
                  </a:lnTo>
                  <a:lnTo>
                    <a:pt x="831" y="5921"/>
                  </a:lnTo>
                  <a:lnTo>
                    <a:pt x="844" y="5959"/>
                  </a:lnTo>
                  <a:lnTo>
                    <a:pt x="856" y="5995"/>
                  </a:lnTo>
                  <a:lnTo>
                    <a:pt x="868" y="6030"/>
                  </a:lnTo>
                  <a:lnTo>
                    <a:pt x="877" y="6064"/>
                  </a:lnTo>
                  <a:lnTo>
                    <a:pt x="873" y="6115"/>
                  </a:lnTo>
                  <a:lnTo>
                    <a:pt x="866" y="6186"/>
                  </a:lnTo>
                  <a:lnTo>
                    <a:pt x="858" y="6258"/>
                  </a:lnTo>
                  <a:lnTo>
                    <a:pt x="857" y="6312"/>
                  </a:lnTo>
                  <a:lnTo>
                    <a:pt x="858" y="6333"/>
                  </a:lnTo>
                  <a:lnTo>
                    <a:pt x="861" y="6357"/>
                  </a:lnTo>
                  <a:lnTo>
                    <a:pt x="864" y="6383"/>
                  </a:lnTo>
                  <a:lnTo>
                    <a:pt x="870" y="6410"/>
                  </a:lnTo>
                  <a:lnTo>
                    <a:pt x="875" y="6437"/>
                  </a:lnTo>
                  <a:lnTo>
                    <a:pt x="882" y="6464"/>
                  </a:lnTo>
                  <a:lnTo>
                    <a:pt x="890" y="6488"/>
                  </a:lnTo>
                  <a:lnTo>
                    <a:pt x="900" y="6510"/>
                  </a:lnTo>
                  <a:lnTo>
                    <a:pt x="915" y="6551"/>
                  </a:lnTo>
                  <a:lnTo>
                    <a:pt x="922" y="6591"/>
                  </a:lnTo>
                  <a:lnTo>
                    <a:pt x="923" y="6634"/>
                  </a:lnTo>
                  <a:lnTo>
                    <a:pt x="921" y="6681"/>
                  </a:lnTo>
                  <a:lnTo>
                    <a:pt x="918" y="6755"/>
                  </a:lnTo>
                  <a:lnTo>
                    <a:pt x="922" y="6861"/>
                  </a:lnTo>
                  <a:lnTo>
                    <a:pt x="931" y="6965"/>
                  </a:lnTo>
                  <a:lnTo>
                    <a:pt x="948" y="7037"/>
                  </a:lnTo>
                  <a:lnTo>
                    <a:pt x="936" y="7089"/>
                  </a:lnTo>
                  <a:lnTo>
                    <a:pt x="937" y="7091"/>
                  </a:lnTo>
                  <a:lnTo>
                    <a:pt x="942" y="7100"/>
                  </a:lnTo>
                  <a:lnTo>
                    <a:pt x="948" y="7112"/>
                  </a:lnTo>
                  <a:lnTo>
                    <a:pt x="954" y="7128"/>
                  </a:lnTo>
                  <a:lnTo>
                    <a:pt x="960" y="7144"/>
                  </a:lnTo>
                  <a:lnTo>
                    <a:pt x="964" y="7161"/>
                  </a:lnTo>
                  <a:lnTo>
                    <a:pt x="967" y="7176"/>
                  </a:lnTo>
                  <a:lnTo>
                    <a:pt x="967" y="7189"/>
                  </a:lnTo>
                  <a:lnTo>
                    <a:pt x="964" y="7200"/>
                  </a:lnTo>
                  <a:lnTo>
                    <a:pt x="961" y="7210"/>
                  </a:lnTo>
                  <a:lnTo>
                    <a:pt x="958" y="7222"/>
                  </a:lnTo>
                  <a:lnTo>
                    <a:pt x="956" y="7235"/>
                  </a:lnTo>
                  <a:lnTo>
                    <a:pt x="957" y="7248"/>
                  </a:lnTo>
                  <a:lnTo>
                    <a:pt x="961" y="7265"/>
                  </a:lnTo>
                  <a:lnTo>
                    <a:pt x="969" y="7285"/>
                  </a:lnTo>
                  <a:lnTo>
                    <a:pt x="983" y="7309"/>
                  </a:lnTo>
                  <a:lnTo>
                    <a:pt x="978" y="7371"/>
                  </a:lnTo>
                  <a:lnTo>
                    <a:pt x="976" y="7450"/>
                  </a:lnTo>
                  <a:lnTo>
                    <a:pt x="977" y="7527"/>
                  </a:lnTo>
                  <a:lnTo>
                    <a:pt x="981" y="7585"/>
                  </a:lnTo>
                  <a:lnTo>
                    <a:pt x="984" y="7606"/>
                  </a:lnTo>
                  <a:lnTo>
                    <a:pt x="991" y="7629"/>
                  </a:lnTo>
                  <a:lnTo>
                    <a:pt x="1002" y="7651"/>
                  </a:lnTo>
                  <a:lnTo>
                    <a:pt x="1014" y="7674"/>
                  </a:lnTo>
                  <a:lnTo>
                    <a:pt x="1028" y="7695"/>
                  </a:lnTo>
                  <a:lnTo>
                    <a:pt x="1043" y="7716"/>
                  </a:lnTo>
                  <a:lnTo>
                    <a:pt x="1058" y="7733"/>
                  </a:lnTo>
                  <a:lnTo>
                    <a:pt x="1075" y="7748"/>
                  </a:lnTo>
                  <a:lnTo>
                    <a:pt x="1089" y="7765"/>
                  </a:lnTo>
                  <a:lnTo>
                    <a:pt x="1101" y="7790"/>
                  </a:lnTo>
                  <a:lnTo>
                    <a:pt x="1109" y="7820"/>
                  </a:lnTo>
                  <a:lnTo>
                    <a:pt x="1116" y="7852"/>
                  </a:lnTo>
                  <a:lnTo>
                    <a:pt x="1122" y="7885"/>
                  </a:lnTo>
                  <a:lnTo>
                    <a:pt x="1125" y="7916"/>
                  </a:lnTo>
                  <a:lnTo>
                    <a:pt x="1130" y="7943"/>
                  </a:lnTo>
                  <a:lnTo>
                    <a:pt x="1134" y="7962"/>
                  </a:lnTo>
                  <a:lnTo>
                    <a:pt x="1138" y="7977"/>
                  </a:lnTo>
                  <a:lnTo>
                    <a:pt x="1145" y="7993"/>
                  </a:lnTo>
                  <a:lnTo>
                    <a:pt x="1152" y="8010"/>
                  </a:lnTo>
                  <a:lnTo>
                    <a:pt x="1159" y="8027"/>
                  </a:lnTo>
                  <a:lnTo>
                    <a:pt x="1165" y="8045"/>
                  </a:lnTo>
                  <a:lnTo>
                    <a:pt x="1169" y="8064"/>
                  </a:lnTo>
                  <a:lnTo>
                    <a:pt x="1171" y="8085"/>
                  </a:lnTo>
                  <a:lnTo>
                    <a:pt x="1169" y="8107"/>
                  </a:lnTo>
                  <a:lnTo>
                    <a:pt x="1159" y="8154"/>
                  </a:lnTo>
                  <a:lnTo>
                    <a:pt x="1150" y="8199"/>
                  </a:lnTo>
                  <a:lnTo>
                    <a:pt x="1143" y="8242"/>
                  </a:lnTo>
                  <a:lnTo>
                    <a:pt x="1143" y="8277"/>
                  </a:lnTo>
                  <a:lnTo>
                    <a:pt x="1148" y="8297"/>
                  </a:lnTo>
                  <a:lnTo>
                    <a:pt x="1155" y="8321"/>
                  </a:lnTo>
                  <a:lnTo>
                    <a:pt x="1164" y="8350"/>
                  </a:lnTo>
                  <a:lnTo>
                    <a:pt x="1176" y="8380"/>
                  </a:lnTo>
                  <a:lnTo>
                    <a:pt x="1189" y="8411"/>
                  </a:lnTo>
                  <a:lnTo>
                    <a:pt x="1203" y="8440"/>
                  </a:lnTo>
                  <a:lnTo>
                    <a:pt x="1216" y="8466"/>
                  </a:lnTo>
                  <a:lnTo>
                    <a:pt x="1229" y="8487"/>
                  </a:lnTo>
                  <a:lnTo>
                    <a:pt x="1224" y="8520"/>
                  </a:lnTo>
                  <a:lnTo>
                    <a:pt x="1223" y="8562"/>
                  </a:lnTo>
                  <a:lnTo>
                    <a:pt x="1229" y="8605"/>
                  </a:lnTo>
                  <a:lnTo>
                    <a:pt x="1244" y="8643"/>
                  </a:lnTo>
                  <a:lnTo>
                    <a:pt x="1243" y="8677"/>
                  </a:lnTo>
                  <a:lnTo>
                    <a:pt x="1246" y="8712"/>
                  </a:lnTo>
                  <a:lnTo>
                    <a:pt x="1256" y="8747"/>
                  </a:lnTo>
                  <a:lnTo>
                    <a:pt x="1272" y="8783"/>
                  </a:lnTo>
                  <a:lnTo>
                    <a:pt x="1281" y="8799"/>
                  </a:lnTo>
                  <a:lnTo>
                    <a:pt x="1288" y="8813"/>
                  </a:lnTo>
                  <a:lnTo>
                    <a:pt x="1292" y="8825"/>
                  </a:lnTo>
                  <a:lnTo>
                    <a:pt x="1296" y="8835"/>
                  </a:lnTo>
                  <a:lnTo>
                    <a:pt x="1299" y="8845"/>
                  </a:lnTo>
                  <a:lnTo>
                    <a:pt x="1303" y="8856"/>
                  </a:lnTo>
                  <a:lnTo>
                    <a:pt x="1308" y="8869"/>
                  </a:lnTo>
                  <a:lnTo>
                    <a:pt x="1312" y="8885"/>
                  </a:lnTo>
                  <a:lnTo>
                    <a:pt x="1319" y="8901"/>
                  </a:lnTo>
                  <a:lnTo>
                    <a:pt x="1328" y="8916"/>
                  </a:lnTo>
                  <a:lnTo>
                    <a:pt x="1337" y="8927"/>
                  </a:lnTo>
                  <a:lnTo>
                    <a:pt x="1349" y="8935"/>
                  </a:lnTo>
                  <a:lnTo>
                    <a:pt x="1362" y="8940"/>
                  </a:lnTo>
                  <a:lnTo>
                    <a:pt x="1375" y="8943"/>
                  </a:lnTo>
                  <a:lnTo>
                    <a:pt x="1390" y="8940"/>
                  </a:lnTo>
                  <a:lnTo>
                    <a:pt x="1406" y="8935"/>
                  </a:lnTo>
                  <a:lnTo>
                    <a:pt x="1425" y="8929"/>
                  </a:lnTo>
                  <a:lnTo>
                    <a:pt x="1445" y="8927"/>
                  </a:lnTo>
                  <a:lnTo>
                    <a:pt x="1467" y="8924"/>
                  </a:lnTo>
                  <a:lnTo>
                    <a:pt x="1490" y="8923"/>
                  </a:lnTo>
                  <a:lnTo>
                    <a:pt x="1513" y="8924"/>
                  </a:lnTo>
                  <a:lnTo>
                    <a:pt x="1536" y="8924"/>
                  </a:lnTo>
                  <a:lnTo>
                    <a:pt x="1557" y="8924"/>
                  </a:lnTo>
                  <a:lnTo>
                    <a:pt x="1577" y="8923"/>
                  </a:lnTo>
                  <a:lnTo>
                    <a:pt x="1586" y="8922"/>
                  </a:lnTo>
                  <a:lnTo>
                    <a:pt x="1598" y="8922"/>
                  </a:lnTo>
                  <a:lnTo>
                    <a:pt x="1610" y="8919"/>
                  </a:lnTo>
                  <a:lnTo>
                    <a:pt x="1621" y="8918"/>
                  </a:lnTo>
                  <a:lnTo>
                    <a:pt x="1634" y="8917"/>
                  </a:lnTo>
                  <a:lnTo>
                    <a:pt x="1649" y="8915"/>
                  </a:lnTo>
                  <a:lnTo>
                    <a:pt x="1663" y="8912"/>
                  </a:lnTo>
                  <a:lnTo>
                    <a:pt x="1677" y="8908"/>
                  </a:lnTo>
                  <a:lnTo>
                    <a:pt x="1691" y="8906"/>
                  </a:lnTo>
                  <a:lnTo>
                    <a:pt x="1705" y="8902"/>
                  </a:lnTo>
                  <a:lnTo>
                    <a:pt x="1719" y="8897"/>
                  </a:lnTo>
                  <a:lnTo>
                    <a:pt x="1733" y="8893"/>
                  </a:lnTo>
                  <a:lnTo>
                    <a:pt x="1747" y="8888"/>
                  </a:lnTo>
                  <a:lnTo>
                    <a:pt x="1761" y="8881"/>
                  </a:lnTo>
                  <a:lnTo>
                    <a:pt x="1774" y="8875"/>
                  </a:lnTo>
                  <a:lnTo>
                    <a:pt x="1786" y="8868"/>
                  </a:lnTo>
                  <a:lnTo>
                    <a:pt x="1808" y="8855"/>
                  </a:lnTo>
                  <a:lnTo>
                    <a:pt x="1827" y="8845"/>
                  </a:lnTo>
                  <a:lnTo>
                    <a:pt x="1846" y="8837"/>
                  </a:lnTo>
                  <a:lnTo>
                    <a:pt x="1864" y="8834"/>
                  </a:lnTo>
                  <a:lnTo>
                    <a:pt x="1881" y="8831"/>
                  </a:lnTo>
                  <a:lnTo>
                    <a:pt x="1900" y="8830"/>
                  </a:lnTo>
                  <a:lnTo>
                    <a:pt x="1922" y="8830"/>
                  </a:lnTo>
                  <a:lnTo>
                    <a:pt x="1947" y="8832"/>
                  </a:lnTo>
                  <a:lnTo>
                    <a:pt x="1961" y="8834"/>
                  </a:lnTo>
                  <a:lnTo>
                    <a:pt x="1977" y="8835"/>
                  </a:lnTo>
                  <a:lnTo>
                    <a:pt x="1993" y="8835"/>
                  </a:lnTo>
                  <a:lnTo>
                    <a:pt x="2009" y="8836"/>
                  </a:lnTo>
                  <a:lnTo>
                    <a:pt x="2027" y="8836"/>
                  </a:lnTo>
                  <a:lnTo>
                    <a:pt x="2045" y="8836"/>
                  </a:lnTo>
                  <a:lnTo>
                    <a:pt x="2062" y="8836"/>
                  </a:lnTo>
                  <a:lnTo>
                    <a:pt x="2080" y="8835"/>
                  </a:lnTo>
                  <a:lnTo>
                    <a:pt x="2099" y="8834"/>
                  </a:lnTo>
                  <a:lnTo>
                    <a:pt x="2116" y="8832"/>
                  </a:lnTo>
                  <a:lnTo>
                    <a:pt x="2135" y="8831"/>
                  </a:lnTo>
                  <a:lnTo>
                    <a:pt x="2153" y="8829"/>
                  </a:lnTo>
                  <a:lnTo>
                    <a:pt x="2170" y="8826"/>
                  </a:lnTo>
                  <a:lnTo>
                    <a:pt x="2188" y="8823"/>
                  </a:lnTo>
                  <a:lnTo>
                    <a:pt x="2205" y="8819"/>
                  </a:lnTo>
                  <a:lnTo>
                    <a:pt x="2220" y="8814"/>
                  </a:lnTo>
                  <a:lnTo>
                    <a:pt x="2236" y="8809"/>
                  </a:lnTo>
                  <a:lnTo>
                    <a:pt x="2253" y="8804"/>
                  </a:lnTo>
                  <a:lnTo>
                    <a:pt x="2272" y="8799"/>
                  </a:lnTo>
                  <a:lnTo>
                    <a:pt x="2290" y="8794"/>
                  </a:lnTo>
                  <a:lnTo>
                    <a:pt x="2309" y="8790"/>
                  </a:lnTo>
                  <a:lnTo>
                    <a:pt x="2330" y="8785"/>
                  </a:lnTo>
                  <a:lnTo>
                    <a:pt x="2350" y="8781"/>
                  </a:lnTo>
                  <a:lnTo>
                    <a:pt x="2372" y="8776"/>
                  </a:lnTo>
                  <a:lnTo>
                    <a:pt x="2392" y="8772"/>
                  </a:lnTo>
                  <a:lnTo>
                    <a:pt x="2413" y="8769"/>
                  </a:lnTo>
                  <a:lnTo>
                    <a:pt x="2433" y="8765"/>
                  </a:lnTo>
                  <a:lnTo>
                    <a:pt x="2453" y="8761"/>
                  </a:lnTo>
                  <a:lnTo>
                    <a:pt x="2473" y="8759"/>
                  </a:lnTo>
                  <a:lnTo>
                    <a:pt x="2491" y="8756"/>
                  </a:lnTo>
                  <a:lnTo>
                    <a:pt x="2509" y="8755"/>
                  </a:lnTo>
                  <a:lnTo>
                    <a:pt x="2527" y="8754"/>
                  </a:lnTo>
                  <a:lnTo>
                    <a:pt x="2544" y="8753"/>
                  </a:lnTo>
                  <a:lnTo>
                    <a:pt x="2563" y="8752"/>
                  </a:lnTo>
                  <a:lnTo>
                    <a:pt x="2582" y="8749"/>
                  </a:lnTo>
                  <a:lnTo>
                    <a:pt x="2602" y="8747"/>
                  </a:lnTo>
                  <a:lnTo>
                    <a:pt x="2623" y="8743"/>
                  </a:lnTo>
                  <a:lnTo>
                    <a:pt x="2643" y="8739"/>
                  </a:lnTo>
                  <a:lnTo>
                    <a:pt x="2664" y="8736"/>
                  </a:lnTo>
                  <a:lnTo>
                    <a:pt x="2684" y="8731"/>
                  </a:lnTo>
                  <a:lnTo>
                    <a:pt x="2704" y="8727"/>
                  </a:lnTo>
                  <a:lnTo>
                    <a:pt x="2723" y="8723"/>
                  </a:lnTo>
                  <a:lnTo>
                    <a:pt x="2742" y="8719"/>
                  </a:lnTo>
                  <a:lnTo>
                    <a:pt x="2760" y="8715"/>
                  </a:lnTo>
                  <a:lnTo>
                    <a:pt x="2775" y="8711"/>
                  </a:lnTo>
                  <a:lnTo>
                    <a:pt x="2789" y="8707"/>
                  </a:lnTo>
                  <a:lnTo>
                    <a:pt x="2801" y="8704"/>
                  </a:lnTo>
                  <a:lnTo>
                    <a:pt x="2811" y="8701"/>
                  </a:lnTo>
                  <a:lnTo>
                    <a:pt x="2821" y="8699"/>
                  </a:lnTo>
                  <a:lnTo>
                    <a:pt x="2832" y="8699"/>
                  </a:lnTo>
                  <a:lnTo>
                    <a:pt x="2844" y="8698"/>
                  </a:lnTo>
                  <a:lnTo>
                    <a:pt x="2858" y="8699"/>
                  </a:lnTo>
                  <a:lnTo>
                    <a:pt x="2872" y="8699"/>
                  </a:lnTo>
                  <a:lnTo>
                    <a:pt x="2889" y="8700"/>
                  </a:lnTo>
                  <a:lnTo>
                    <a:pt x="2905" y="8700"/>
                  </a:lnTo>
                  <a:lnTo>
                    <a:pt x="2923" y="8700"/>
                  </a:lnTo>
                  <a:lnTo>
                    <a:pt x="2941" y="8700"/>
                  </a:lnTo>
                  <a:lnTo>
                    <a:pt x="2961" y="8699"/>
                  </a:lnTo>
                  <a:lnTo>
                    <a:pt x="2981" y="8695"/>
                  </a:lnTo>
                  <a:lnTo>
                    <a:pt x="3002" y="8692"/>
                  </a:lnTo>
                  <a:lnTo>
                    <a:pt x="3023" y="8687"/>
                  </a:lnTo>
                  <a:lnTo>
                    <a:pt x="3045" y="8678"/>
                  </a:lnTo>
                  <a:lnTo>
                    <a:pt x="3068" y="8669"/>
                  </a:lnTo>
                  <a:lnTo>
                    <a:pt x="3091" y="8657"/>
                  </a:lnTo>
                  <a:lnTo>
                    <a:pt x="3113" y="8645"/>
                  </a:lnTo>
                  <a:lnTo>
                    <a:pt x="3132" y="8636"/>
                  </a:lnTo>
                  <a:lnTo>
                    <a:pt x="3150" y="8629"/>
                  </a:lnTo>
                  <a:lnTo>
                    <a:pt x="3165" y="8624"/>
                  </a:lnTo>
                  <a:lnTo>
                    <a:pt x="3179" y="8622"/>
                  </a:lnTo>
                  <a:lnTo>
                    <a:pt x="3192" y="8619"/>
                  </a:lnTo>
                  <a:lnTo>
                    <a:pt x="3205" y="8618"/>
                  </a:lnTo>
                  <a:lnTo>
                    <a:pt x="3216" y="8618"/>
                  </a:lnTo>
                  <a:lnTo>
                    <a:pt x="3227" y="8618"/>
                  </a:lnTo>
                  <a:lnTo>
                    <a:pt x="3238" y="8618"/>
                  </a:lnTo>
                  <a:lnTo>
                    <a:pt x="3250" y="8618"/>
                  </a:lnTo>
                  <a:lnTo>
                    <a:pt x="3263" y="8617"/>
                  </a:lnTo>
                  <a:lnTo>
                    <a:pt x="3276" y="8614"/>
                  </a:lnTo>
                  <a:lnTo>
                    <a:pt x="3291" y="8611"/>
                  </a:lnTo>
                  <a:lnTo>
                    <a:pt x="3306" y="8605"/>
                  </a:lnTo>
                  <a:lnTo>
                    <a:pt x="3325" y="8597"/>
                  </a:lnTo>
                  <a:lnTo>
                    <a:pt x="3345" y="8590"/>
                  </a:lnTo>
                  <a:lnTo>
                    <a:pt x="3366" y="8582"/>
                  </a:lnTo>
                  <a:lnTo>
                    <a:pt x="3387" y="8579"/>
                  </a:lnTo>
                  <a:lnTo>
                    <a:pt x="3408" y="8575"/>
                  </a:lnTo>
                  <a:lnTo>
                    <a:pt x="3431" y="8573"/>
                  </a:lnTo>
                  <a:lnTo>
                    <a:pt x="3452" y="8571"/>
                  </a:lnTo>
                  <a:lnTo>
                    <a:pt x="3474" y="8570"/>
                  </a:lnTo>
                  <a:lnTo>
                    <a:pt x="3495" y="8570"/>
                  </a:lnTo>
                  <a:lnTo>
                    <a:pt x="3517" y="8571"/>
                  </a:lnTo>
                  <a:lnTo>
                    <a:pt x="3537" y="8573"/>
                  </a:lnTo>
                  <a:lnTo>
                    <a:pt x="3555" y="8574"/>
                  </a:lnTo>
                  <a:lnTo>
                    <a:pt x="3573" y="8575"/>
                  </a:lnTo>
                  <a:lnTo>
                    <a:pt x="3590" y="8576"/>
                  </a:lnTo>
                  <a:lnTo>
                    <a:pt x="3605" y="8578"/>
                  </a:lnTo>
                  <a:lnTo>
                    <a:pt x="3619" y="8579"/>
                  </a:lnTo>
                  <a:lnTo>
                    <a:pt x="3631" y="8579"/>
                  </a:lnTo>
                  <a:lnTo>
                    <a:pt x="3635" y="8576"/>
                  </a:lnTo>
                  <a:lnTo>
                    <a:pt x="3644" y="8574"/>
                  </a:lnTo>
                  <a:lnTo>
                    <a:pt x="3653" y="8571"/>
                  </a:lnTo>
                  <a:lnTo>
                    <a:pt x="3665" y="8568"/>
                  </a:lnTo>
                  <a:lnTo>
                    <a:pt x="3677" y="8564"/>
                  </a:lnTo>
                  <a:lnTo>
                    <a:pt x="3691" y="8560"/>
                  </a:lnTo>
                  <a:lnTo>
                    <a:pt x="3706" y="8557"/>
                  </a:lnTo>
                  <a:lnTo>
                    <a:pt x="3721" y="8553"/>
                  </a:lnTo>
                  <a:lnTo>
                    <a:pt x="3738" y="8549"/>
                  </a:lnTo>
                  <a:lnTo>
                    <a:pt x="3753" y="8545"/>
                  </a:lnTo>
                  <a:lnTo>
                    <a:pt x="3768" y="8541"/>
                  </a:lnTo>
                  <a:lnTo>
                    <a:pt x="3784" y="8537"/>
                  </a:lnTo>
                  <a:lnTo>
                    <a:pt x="3799" y="8532"/>
                  </a:lnTo>
                  <a:lnTo>
                    <a:pt x="3812" y="8529"/>
                  </a:lnTo>
                  <a:lnTo>
                    <a:pt x="3823" y="8526"/>
                  </a:lnTo>
                  <a:lnTo>
                    <a:pt x="3834" y="8522"/>
                  </a:lnTo>
                  <a:lnTo>
                    <a:pt x="3845" y="8522"/>
                  </a:lnTo>
                  <a:lnTo>
                    <a:pt x="3858" y="8522"/>
                  </a:lnTo>
                  <a:lnTo>
                    <a:pt x="3874" y="8522"/>
                  </a:lnTo>
                  <a:lnTo>
                    <a:pt x="3893" y="8521"/>
                  </a:lnTo>
                  <a:lnTo>
                    <a:pt x="3913" y="8520"/>
                  </a:lnTo>
                  <a:lnTo>
                    <a:pt x="3935" y="8516"/>
                  </a:lnTo>
                  <a:lnTo>
                    <a:pt x="3960" y="8511"/>
                  </a:lnTo>
                  <a:lnTo>
                    <a:pt x="3986" y="8503"/>
                  </a:lnTo>
                  <a:lnTo>
                    <a:pt x="4000" y="8498"/>
                  </a:lnTo>
                  <a:lnTo>
                    <a:pt x="4014" y="8492"/>
                  </a:lnTo>
                  <a:lnTo>
                    <a:pt x="4030" y="8487"/>
                  </a:lnTo>
                  <a:lnTo>
                    <a:pt x="4047" y="8481"/>
                  </a:lnTo>
                  <a:lnTo>
                    <a:pt x="4063" y="8475"/>
                  </a:lnTo>
                  <a:lnTo>
                    <a:pt x="4081" y="8469"/>
                  </a:lnTo>
                  <a:lnTo>
                    <a:pt x="4097" y="8464"/>
                  </a:lnTo>
                  <a:lnTo>
                    <a:pt x="4115" y="8458"/>
                  </a:lnTo>
                  <a:lnTo>
                    <a:pt x="4132" y="8453"/>
                  </a:lnTo>
                  <a:lnTo>
                    <a:pt x="4148" y="8448"/>
                  </a:lnTo>
                  <a:lnTo>
                    <a:pt x="4163" y="8443"/>
                  </a:lnTo>
                  <a:lnTo>
                    <a:pt x="4177" y="8440"/>
                  </a:lnTo>
                  <a:lnTo>
                    <a:pt x="4191" y="8437"/>
                  </a:lnTo>
                  <a:lnTo>
                    <a:pt x="4203" y="8435"/>
                  </a:lnTo>
                  <a:lnTo>
                    <a:pt x="4214" y="8434"/>
                  </a:lnTo>
                  <a:lnTo>
                    <a:pt x="4222" y="8434"/>
                  </a:lnTo>
                  <a:lnTo>
                    <a:pt x="4237" y="8435"/>
                  </a:lnTo>
                  <a:lnTo>
                    <a:pt x="4253" y="8435"/>
                  </a:lnTo>
                  <a:lnTo>
                    <a:pt x="4266" y="8437"/>
                  </a:lnTo>
                  <a:lnTo>
                    <a:pt x="4278" y="8438"/>
                  </a:lnTo>
                  <a:lnTo>
                    <a:pt x="4288" y="8438"/>
                  </a:lnTo>
                  <a:lnTo>
                    <a:pt x="4295" y="8439"/>
                  </a:lnTo>
                  <a:lnTo>
                    <a:pt x="4301" y="8439"/>
                  </a:lnTo>
                  <a:lnTo>
                    <a:pt x="4302" y="8439"/>
                  </a:lnTo>
                  <a:lnTo>
                    <a:pt x="4310" y="8437"/>
                  </a:lnTo>
                  <a:lnTo>
                    <a:pt x="4323" y="8432"/>
                  </a:lnTo>
                  <a:lnTo>
                    <a:pt x="4340" y="8427"/>
                  </a:lnTo>
                  <a:lnTo>
                    <a:pt x="4357" y="8422"/>
                  </a:lnTo>
                  <a:lnTo>
                    <a:pt x="4378" y="8415"/>
                  </a:lnTo>
                  <a:lnTo>
                    <a:pt x="4400" y="8408"/>
                  </a:lnTo>
                  <a:lnTo>
                    <a:pt x="4422" y="8401"/>
                  </a:lnTo>
                  <a:lnTo>
                    <a:pt x="4445" y="8395"/>
                  </a:lnTo>
                  <a:lnTo>
                    <a:pt x="4468" y="8388"/>
                  </a:lnTo>
                  <a:lnTo>
                    <a:pt x="4489" y="8382"/>
                  </a:lnTo>
                  <a:lnTo>
                    <a:pt x="4509" y="8375"/>
                  </a:lnTo>
                  <a:lnTo>
                    <a:pt x="4527" y="8370"/>
                  </a:lnTo>
                  <a:lnTo>
                    <a:pt x="4541" y="8366"/>
                  </a:lnTo>
                  <a:lnTo>
                    <a:pt x="4552" y="8362"/>
                  </a:lnTo>
                  <a:lnTo>
                    <a:pt x="4559" y="8361"/>
                  </a:lnTo>
                  <a:lnTo>
                    <a:pt x="4562" y="8359"/>
                  </a:lnTo>
                  <a:lnTo>
                    <a:pt x="4575" y="8359"/>
                  </a:lnTo>
                  <a:lnTo>
                    <a:pt x="4590" y="8361"/>
                  </a:lnTo>
                  <a:lnTo>
                    <a:pt x="4606" y="8362"/>
                  </a:lnTo>
                  <a:lnTo>
                    <a:pt x="4625" y="8363"/>
                  </a:lnTo>
                  <a:lnTo>
                    <a:pt x="4644" y="8366"/>
                  </a:lnTo>
                  <a:lnTo>
                    <a:pt x="4663" y="8367"/>
                  </a:lnTo>
                  <a:lnTo>
                    <a:pt x="4682" y="8368"/>
                  </a:lnTo>
                  <a:lnTo>
                    <a:pt x="4698" y="8368"/>
                  </a:lnTo>
                  <a:lnTo>
                    <a:pt x="4715" y="8367"/>
                  </a:lnTo>
                  <a:lnTo>
                    <a:pt x="4733" y="8366"/>
                  </a:lnTo>
                  <a:lnTo>
                    <a:pt x="4752" y="8363"/>
                  </a:lnTo>
                  <a:lnTo>
                    <a:pt x="4772" y="8361"/>
                  </a:lnTo>
                  <a:lnTo>
                    <a:pt x="4791" y="8358"/>
                  </a:lnTo>
                  <a:lnTo>
                    <a:pt x="4810" y="8355"/>
                  </a:lnTo>
                  <a:lnTo>
                    <a:pt x="4826" y="8350"/>
                  </a:lnTo>
                  <a:lnTo>
                    <a:pt x="4839" y="8345"/>
                  </a:lnTo>
                  <a:lnTo>
                    <a:pt x="4852" y="8339"/>
                  </a:lnTo>
                  <a:lnTo>
                    <a:pt x="4865" y="8333"/>
                  </a:lnTo>
                  <a:lnTo>
                    <a:pt x="4879" y="8326"/>
                  </a:lnTo>
                  <a:lnTo>
                    <a:pt x="4895" y="8321"/>
                  </a:lnTo>
                  <a:lnTo>
                    <a:pt x="4910" y="8317"/>
                  </a:lnTo>
                  <a:lnTo>
                    <a:pt x="4927" y="8314"/>
                  </a:lnTo>
                  <a:lnTo>
                    <a:pt x="4945" y="8312"/>
                  </a:lnTo>
                  <a:lnTo>
                    <a:pt x="4964" y="8312"/>
                  </a:lnTo>
                  <a:lnTo>
                    <a:pt x="4983" y="8312"/>
                  </a:lnTo>
                  <a:lnTo>
                    <a:pt x="5003" y="8309"/>
                  </a:lnTo>
                  <a:lnTo>
                    <a:pt x="5021" y="8307"/>
                  </a:lnTo>
                  <a:lnTo>
                    <a:pt x="5040" y="8304"/>
                  </a:lnTo>
                  <a:lnTo>
                    <a:pt x="5057" y="8299"/>
                  </a:lnTo>
                  <a:lnTo>
                    <a:pt x="5073" y="8296"/>
                  </a:lnTo>
                  <a:lnTo>
                    <a:pt x="5087" y="8291"/>
                  </a:lnTo>
                  <a:lnTo>
                    <a:pt x="5099" y="8286"/>
                  </a:lnTo>
                  <a:lnTo>
                    <a:pt x="5111" y="8282"/>
                  </a:lnTo>
                  <a:lnTo>
                    <a:pt x="5126" y="8279"/>
                  </a:lnTo>
                  <a:lnTo>
                    <a:pt x="5144" y="8276"/>
                  </a:lnTo>
                  <a:lnTo>
                    <a:pt x="5163" y="8274"/>
                  </a:lnTo>
                  <a:lnTo>
                    <a:pt x="5181" y="8270"/>
                  </a:lnTo>
                  <a:lnTo>
                    <a:pt x="5201" y="8266"/>
                  </a:lnTo>
                  <a:lnTo>
                    <a:pt x="5220" y="8260"/>
                  </a:lnTo>
                  <a:lnTo>
                    <a:pt x="5239" y="8253"/>
                  </a:lnTo>
                  <a:lnTo>
                    <a:pt x="5342" y="8260"/>
                  </a:lnTo>
                  <a:lnTo>
                    <a:pt x="5346" y="8260"/>
                  </a:lnTo>
                  <a:lnTo>
                    <a:pt x="5355" y="8260"/>
                  </a:lnTo>
                  <a:lnTo>
                    <a:pt x="5368" y="8260"/>
                  </a:lnTo>
                  <a:lnTo>
                    <a:pt x="5384" y="8259"/>
                  </a:lnTo>
                  <a:lnTo>
                    <a:pt x="5400" y="8258"/>
                  </a:lnTo>
                  <a:lnTo>
                    <a:pt x="5415" y="8257"/>
                  </a:lnTo>
                  <a:lnTo>
                    <a:pt x="5428" y="8254"/>
                  </a:lnTo>
                  <a:lnTo>
                    <a:pt x="5438" y="8250"/>
                  </a:lnTo>
                  <a:lnTo>
                    <a:pt x="5446" y="8246"/>
                  </a:lnTo>
                  <a:lnTo>
                    <a:pt x="5460" y="8238"/>
                  </a:lnTo>
                  <a:lnTo>
                    <a:pt x="5476" y="8230"/>
                  </a:lnTo>
                  <a:lnTo>
                    <a:pt x="5496" y="8220"/>
                  </a:lnTo>
                  <a:lnTo>
                    <a:pt x="5519" y="8210"/>
                  </a:lnTo>
                  <a:lnTo>
                    <a:pt x="5542" y="8200"/>
                  </a:lnTo>
                  <a:lnTo>
                    <a:pt x="5567" y="8192"/>
                  </a:lnTo>
                  <a:lnTo>
                    <a:pt x="5590" y="8183"/>
                  </a:lnTo>
                  <a:lnTo>
                    <a:pt x="5603" y="8179"/>
                  </a:lnTo>
                  <a:lnTo>
                    <a:pt x="5616" y="8177"/>
                  </a:lnTo>
                  <a:lnTo>
                    <a:pt x="5632" y="8173"/>
                  </a:lnTo>
                  <a:lnTo>
                    <a:pt x="5648" y="8171"/>
                  </a:lnTo>
                  <a:lnTo>
                    <a:pt x="5666" y="8168"/>
                  </a:lnTo>
                  <a:lnTo>
                    <a:pt x="5683" y="8166"/>
                  </a:lnTo>
                  <a:lnTo>
                    <a:pt x="5702" y="8165"/>
                  </a:lnTo>
                  <a:lnTo>
                    <a:pt x="5723" y="8163"/>
                  </a:lnTo>
                  <a:lnTo>
                    <a:pt x="5743" y="8161"/>
                  </a:lnTo>
                  <a:lnTo>
                    <a:pt x="5764" y="8160"/>
                  </a:lnTo>
                  <a:lnTo>
                    <a:pt x="5787" y="8159"/>
                  </a:lnTo>
                  <a:lnTo>
                    <a:pt x="5809" y="8159"/>
                  </a:lnTo>
                  <a:lnTo>
                    <a:pt x="5832" y="8157"/>
                  </a:lnTo>
                  <a:lnTo>
                    <a:pt x="5855" y="8156"/>
                  </a:lnTo>
                  <a:lnTo>
                    <a:pt x="5877" y="8156"/>
                  </a:lnTo>
                  <a:lnTo>
                    <a:pt x="5901" y="8155"/>
                  </a:lnTo>
                  <a:lnTo>
                    <a:pt x="5921" y="8154"/>
                  </a:lnTo>
                  <a:lnTo>
                    <a:pt x="5935" y="8151"/>
                  </a:lnTo>
                  <a:lnTo>
                    <a:pt x="5947" y="8147"/>
                  </a:lnTo>
                  <a:lnTo>
                    <a:pt x="5957" y="8143"/>
                  </a:lnTo>
                  <a:lnTo>
                    <a:pt x="5966" y="8136"/>
                  </a:lnTo>
                  <a:lnTo>
                    <a:pt x="5975" y="8132"/>
                  </a:lnTo>
                  <a:lnTo>
                    <a:pt x="5986" y="8125"/>
                  </a:lnTo>
                  <a:lnTo>
                    <a:pt x="6000" y="8121"/>
                  </a:lnTo>
                  <a:lnTo>
                    <a:pt x="6016" y="8116"/>
                  </a:lnTo>
                  <a:lnTo>
                    <a:pt x="6033" y="8108"/>
                  </a:lnTo>
                  <a:lnTo>
                    <a:pt x="6051" y="8101"/>
                  </a:lnTo>
                  <a:lnTo>
                    <a:pt x="6070" y="8094"/>
                  </a:lnTo>
                  <a:lnTo>
                    <a:pt x="6090" y="8085"/>
                  </a:lnTo>
                  <a:lnTo>
                    <a:pt x="6112" y="8076"/>
                  </a:lnTo>
                  <a:lnTo>
                    <a:pt x="6135" y="8069"/>
                  </a:lnTo>
                  <a:lnTo>
                    <a:pt x="6160" y="8063"/>
                  </a:lnTo>
                  <a:close/>
                </a:path>
              </a:pathLst>
            </a:custGeom>
            <a:solidFill>
              <a:srgbClr val="7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  <p:sp>
          <p:nvSpPr>
            <p:cNvPr id="121" name="Freeform 14"/>
            <p:cNvSpPr/>
            <p:nvPr/>
          </p:nvSpPr>
          <p:spPr>
            <a:xfrm rot="595800">
              <a:off x="40680" y="1118520"/>
              <a:ext cx="3889440" cy="5531400"/>
            </a:xfrm>
            <a:custGeom>
              <a:avLst/>
              <a:gdLst>
                <a:gd name="textAreaLeft" fmla="*/ 0 w 3889440"/>
                <a:gd name="textAreaRight" fmla="*/ 3889800 w 3889440"/>
                <a:gd name="textAreaTop" fmla="*/ 0 h 5531400"/>
                <a:gd name="textAreaBottom" fmla="*/ 5531400 h 5531400"/>
              </a:gdLst>
              <a:ahLst/>
              <a:rect l="textAreaLeft" t="textAreaTop" r="textAreaRight" b="textAreaBottom"/>
              <a:pathLst>
                <a:path w="6188" h="8622">
                  <a:moveTo>
                    <a:pt x="228" y="871"/>
                  </a:moveTo>
                  <a:lnTo>
                    <a:pt x="218" y="871"/>
                  </a:lnTo>
                  <a:lnTo>
                    <a:pt x="207" y="870"/>
                  </a:lnTo>
                  <a:lnTo>
                    <a:pt x="195" y="870"/>
                  </a:lnTo>
                  <a:lnTo>
                    <a:pt x="183" y="870"/>
                  </a:lnTo>
                  <a:lnTo>
                    <a:pt x="170" y="871"/>
                  </a:lnTo>
                  <a:lnTo>
                    <a:pt x="159" y="874"/>
                  </a:lnTo>
                  <a:lnTo>
                    <a:pt x="150" y="876"/>
                  </a:lnTo>
                  <a:lnTo>
                    <a:pt x="142" y="880"/>
                  </a:lnTo>
                  <a:lnTo>
                    <a:pt x="135" y="883"/>
                  </a:lnTo>
                  <a:lnTo>
                    <a:pt x="128" y="885"/>
                  </a:lnTo>
                  <a:lnTo>
                    <a:pt x="121" y="886"/>
                  </a:lnTo>
                  <a:lnTo>
                    <a:pt x="114" y="886"/>
                  </a:lnTo>
                  <a:lnTo>
                    <a:pt x="105" y="887"/>
                  </a:lnTo>
                  <a:lnTo>
                    <a:pt x="98" y="887"/>
                  </a:lnTo>
                  <a:lnTo>
                    <a:pt x="91" y="890"/>
                  </a:lnTo>
                  <a:lnTo>
                    <a:pt x="85" y="895"/>
                  </a:lnTo>
                  <a:lnTo>
                    <a:pt x="78" y="899"/>
                  </a:lnTo>
                  <a:lnTo>
                    <a:pt x="68" y="903"/>
                  </a:lnTo>
                  <a:lnTo>
                    <a:pt x="55" y="907"/>
                  </a:lnTo>
                  <a:lnTo>
                    <a:pt x="41" y="910"/>
                  </a:lnTo>
                  <a:lnTo>
                    <a:pt x="28" y="915"/>
                  </a:lnTo>
                  <a:lnTo>
                    <a:pt x="16" y="921"/>
                  </a:lnTo>
                  <a:lnTo>
                    <a:pt x="5" y="929"/>
                  </a:lnTo>
                  <a:lnTo>
                    <a:pt x="0" y="940"/>
                  </a:lnTo>
                  <a:lnTo>
                    <a:pt x="5" y="955"/>
                  </a:lnTo>
                  <a:lnTo>
                    <a:pt x="13" y="974"/>
                  </a:lnTo>
                  <a:lnTo>
                    <a:pt x="20" y="997"/>
                  </a:lnTo>
                  <a:lnTo>
                    <a:pt x="28" y="1021"/>
                  </a:lnTo>
                  <a:lnTo>
                    <a:pt x="36" y="1044"/>
                  </a:lnTo>
                  <a:lnTo>
                    <a:pt x="42" y="1065"/>
                  </a:lnTo>
                  <a:lnTo>
                    <a:pt x="47" y="1082"/>
                  </a:lnTo>
                  <a:lnTo>
                    <a:pt x="48" y="1092"/>
                  </a:lnTo>
                  <a:lnTo>
                    <a:pt x="50" y="1098"/>
                  </a:lnTo>
                  <a:lnTo>
                    <a:pt x="55" y="1104"/>
                  </a:lnTo>
                  <a:lnTo>
                    <a:pt x="62" y="1109"/>
                  </a:lnTo>
                  <a:lnTo>
                    <a:pt x="70" y="1114"/>
                  </a:lnTo>
                  <a:lnTo>
                    <a:pt x="78" y="1119"/>
                  </a:lnTo>
                  <a:lnTo>
                    <a:pt x="87" y="1124"/>
                  </a:lnTo>
                  <a:lnTo>
                    <a:pt x="94" y="1129"/>
                  </a:lnTo>
                  <a:lnTo>
                    <a:pt x="98" y="1133"/>
                  </a:lnTo>
                  <a:lnTo>
                    <a:pt x="103" y="1141"/>
                  </a:lnTo>
                  <a:lnTo>
                    <a:pt x="109" y="1153"/>
                  </a:lnTo>
                  <a:lnTo>
                    <a:pt x="115" y="1168"/>
                  </a:lnTo>
                  <a:lnTo>
                    <a:pt x="121" y="1187"/>
                  </a:lnTo>
                  <a:lnTo>
                    <a:pt x="125" y="1209"/>
                  </a:lnTo>
                  <a:lnTo>
                    <a:pt x="128" y="1236"/>
                  </a:lnTo>
                  <a:lnTo>
                    <a:pt x="128" y="1266"/>
                  </a:lnTo>
                  <a:lnTo>
                    <a:pt x="123" y="1300"/>
                  </a:lnTo>
                  <a:lnTo>
                    <a:pt x="118" y="1334"/>
                  </a:lnTo>
                  <a:lnTo>
                    <a:pt x="115" y="1365"/>
                  </a:lnTo>
                  <a:lnTo>
                    <a:pt x="115" y="1392"/>
                  </a:lnTo>
                  <a:lnTo>
                    <a:pt x="116" y="1417"/>
                  </a:lnTo>
                  <a:lnTo>
                    <a:pt x="120" y="1440"/>
                  </a:lnTo>
                  <a:lnTo>
                    <a:pt x="124" y="1461"/>
                  </a:lnTo>
                  <a:lnTo>
                    <a:pt x="132" y="1479"/>
                  </a:lnTo>
                  <a:lnTo>
                    <a:pt x="142" y="1497"/>
                  </a:lnTo>
                  <a:lnTo>
                    <a:pt x="152" y="1517"/>
                  </a:lnTo>
                  <a:lnTo>
                    <a:pt x="162" y="1538"/>
                  </a:lnTo>
                  <a:lnTo>
                    <a:pt x="170" y="1561"/>
                  </a:lnTo>
                  <a:lnTo>
                    <a:pt x="176" y="1583"/>
                  </a:lnTo>
                  <a:lnTo>
                    <a:pt x="182" y="1605"/>
                  </a:lnTo>
                  <a:lnTo>
                    <a:pt x="184" y="1625"/>
                  </a:lnTo>
                  <a:lnTo>
                    <a:pt x="185" y="1641"/>
                  </a:lnTo>
                  <a:lnTo>
                    <a:pt x="184" y="1652"/>
                  </a:lnTo>
                  <a:lnTo>
                    <a:pt x="185" y="1676"/>
                  </a:lnTo>
                  <a:lnTo>
                    <a:pt x="191" y="1712"/>
                  </a:lnTo>
                  <a:lnTo>
                    <a:pt x="196" y="1752"/>
                  </a:lnTo>
                  <a:lnTo>
                    <a:pt x="194" y="1788"/>
                  </a:lnTo>
                  <a:lnTo>
                    <a:pt x="187" y="1825"/>
                  </a:lnTo>
                  <a:lnTo>
                    <a:pt x="182" y="1869"/>
                  </a:lnTo>
                  <a:lnTo>
                    <a:pt x="177" y="1910"/>
                  </a:lnTo>
                  <a:lnTo>
                    <a:pt x="174" y="1942"/>
                  </a:lnTo>
                  <a:lnTo>
                    <a:pt x="174" y="1970"/>
                  </a:lnTo>
                  <a:lnTo>
                    <a:pt x="176" y="2006"/>
                  </a:lnTo>
                  <a:lnTo>
                    <a:pt x="181" y="2040"/>
                  </a:lnTo>
                  <a:lnTo>
                    <a:pt x="182" y="2067"/>
                  </a:lnTo>
                  <a:lnTo>
                    <a:pt x="184" y="2099"/>
                  </a:lnTo>
                  <a:lnTo>
                    <a:pt x="191" y="2146"/>
                  </a:lnTo>
                  <a:lnTo>
                    <a:pt x="198" y="2192"/>
                  </a:lnTo>
                  <a:lnTo>
                    <a:pt x="205" y="2226"/>
                  </a:lnTo>
                  <a:lnTo>
                    <a:pt x="208" y="2240"/>
                  </a:lnTo>
                  <a:lnTo>
                    <a:pt x="212" y="2257"/>
                  </a:lnTo>
                  <a:lnTo>
                    <a:pt x="217" y="2277"/>
                  </a:lnTo>
                  <a:lnTo>
                    <a:pt x="223" y="2296"/>
                  </a:lnTo>
                  <a:lnTo>
                    <a:pt x="229" y="2316"/>
                  </a:lnTo>
                  <a:lnTo>
                    <a:pt x="235" y="2333"/>
                  </a:lnTo>
                  <a:lnTo>
                    <a:pt x="241" y="2349"/>
                  </a:lnTo>
                  <a:lnTo>
                    <a:pt x="245" y="2360"/>
                  </a:lnTo>
                  <a:lnTo>
                    <a:pt x="252" y="2385"/>
                  </a:lnTo>
                  <a:lnTo>
                    <a:pt x="257" y="2419"/>
                  </a:lnTo>
                  <a:lnTo>
                    <a:pt x="258" y="2452"/>
                  </a:lnTo>
                  <a:lnTo>
                    <a:pt x="258" y="2476"/>
                  </a:lnTo>
                  <a:lnTo>
                    <a:pt x="261" y="2502"/>
                  </a:lnTo>
                  <a:lnTo>
                    <a:pt x="265" y="2539"/>
                  </a:lnTo>
                  <a:lnTo>
                    <a:pt x="270" y="2577"/>
                  </a:lnTo>
                  <a:lnTo>
                    <a:pt x="272" y="2605"/>
                  </a:lnTo>
                  <a:lnTo>
                    <a:pt x="270" y="2641"/>
                  </a:lnTo>
                  <a:lnTo>
                    <a:pt x="268" y="2693"/>
                  </a:lnTo>
                  <a:lnTo>
                    <a:pt x="266" y="2747"/>
                  </a:lnTo>
                  <a:lnTo>
                    <a:pt x="272" y="2786"/>
                  </a:lnTo>
                  <a:lnTo>
                    <a:pt x="282" y="2815"/>
                  </a:lnTo>
                  <a:lnTo>
                    <a:pt x="290" y="2845"/>
                  </a:lnTo>
                  <a:lnTo>
                    <a:pt x="298" y="2873"/>
                  </a:lnTo>
                  <a:lnTo>
                    <a:pt x="306" y="2893"/>
                  </a:lnTo>
                  <a:lnTo>
                    <a:pt x="312" y="2900"/>
                  </a:lnTo>
                  <a:lnTo>
                    <a:pt x="318" y="2908"/>
                  </a:lnTo>
                  <a:lnTo>
                    <a:pt x="324" y="2918"/>
                  </a:lnTo>
                  <a:lnTo>
                    <a:pt x="330" y="2927"/>
                  </a:lnTo>
                  <a:lnTo>
                    <a:pt x="335" y="2940"/>
                  </a:lnTo>
                  <a:lnTo>
                    <a:pt x="341" y="2954"/>
                  </a:lnTo>
                  <a:lnTo>
                    <a:pt x="344" y="2972"/>
                  </a:lnTo>
                  <a:lnTo>
                    <a:pt x="348" y="2992"/>
                  </a:lnTo>
                  <a:lnTo>
                    <a:pt x="355" y="3036"/>
                  </a:lnTo>
                  <a:lnTo>
                    <a:pt x="362" y="3076"/>
                  </a:lnTo>
                  <a:lnTo>
                    <a:pt x="368" y="3109"/>
                  </a:lnTo>
                  <a:lnTo>
                    <a:pt x="370" y="3131"/>
                  </a:lnTo>
                  <a:lnTo>
                    <a:pt x="372" y="3160"/>
                  </a:lnTo>
                  <a:lnTo>
                    <a:pt x="378" y="3207"/>
                  </a:lnTo>
                  <a:lnTo>
                    <a:pt x="386" y="3253"/>
                  </a:lnTo>
                  <a:lnTo>
                    <a:pt x="397" y="3283"/>
                  </a:lnTo>
                  <a:lnTo>
                    <a:pt x="406" y="3306"/>
                  </a:lnTo>
                  <a:lnTo>
                    <a:pt x="413" y="3338"/>
                  </a:lnTo>
                  <a:lnTo>
                    <a:pt x="417" y="3373"/>
                  </a:lnTo>
                  <a:lnTo>
                    <a:pt x="418" y="3404"/>
                  </a:lnTo>
                  <a:lnTo>
                    <a:pt x="422" y="3414"/>
                  </a:lnTo>
                  <a:lnTo>
                    <a:pt x="429" y="3437"/>
                  </a:lnTo>
                  <a:lnTo>
                    <a:pt x="437" y="3467"/>
                  </a:lnTo>
                  <a:lnTo>
                    <a:pt x="443" y="3492"/>
                  </a:lnTo>
                  <a:lnTo>
                    <a:pt x="448" y="3519"/>
                  </a:lnTo>
                  <a:lnTo>
                    <a:pt x="452" y="3551"/>
                  </a:lnTo>
                  <a:lnTo>
                    <a:pt x="457" y="3579"/>
                  </a:lnTo>
                  <a:lnTo>
                    <a:pt x="458" y="3600"/>
                  </a:lnTo>
                  <a:lnTo>
                    <a:pt x="462" y="3625"/>
                  </a:lnTo>
                  <a:lnTo>
                    <a:pt x="469" y="3663"/>
                  </a:lnTo>
                  <a:lnTo>
                    <a:pt x="473" y="3699"/>
                  </a:lnTo>
                  <a:lnTo>
                    <a:pt x="475" y="3725"/>
                  </a:lnTo>
                  <a:lnTo>
                    <a:pt x="483" y="3737"/>
                  </a:lnTo>
                  <a:lnTo>
                    <a:pt x="491" y="3752"/>
                  </a:lnTo>
                  <a:lnTo>
                    <a:pt x="498" y="3772"/>
                  </a:lnTo>
                  <a:lnTo>
                    <a:pt x="504" y="3791"/>
                  </a:lnTo>
                  <a:lnTo>
                    <a:pt x="510" y="3812"/>
                  </a:lnTo>
                  <a:lnTo>
                    <a:pt x="513" y="3833"/>
                  </a:lnTo>
                  <a:lnTo>
                    <a:pt x="516" y="3850"/>
                  </a:lnTo>
                  <a:lnTo>
                    <a:pt x="516" y="3865"/>
                  </a:lnTo>
                  <a:lnTo>
                    <a:pt x="515" y="3900"/>
                  </a:lnTo>
                  <a:lnTo>
                    <a:pt x="513" y="3949"/>
                  </a:lnTo>
                  <a:lnTo>
                    <a:pt x="511" y="4000"/>
                  </a:lnTo>
                  <a:lnTo>
                    <a:pt x="507" y="4038"/>
                  </a:lnTo>
                  <a:lnTo>
                    <a:pt x="505" y="4073"/>
                  </a:lnTo>
                  <a:lnTo>
                    <a:pt x="509" y="4123"/>
                  </a:lnTo>
                  <a:lnTo>
                    <a:pt x="518" y="4183"/>
                  </a:lnTo>
                  <a:lnTo>
                    <a:pt x="536" y="4247"/>
                  </a:lnTo>
                  <a:lnTo>
                    <a:pt x="546" y="4280"/>
                  </a:lnTo>
                  <a:lnTo>
                    <a:pt x="557" y="4313"/>
                  </a:lnTo>
                  <a:lnTo>
                    <a:pt x="569" y="4346"/>
                  </a:lnTo>
                  <a:lnTo>
                    <a:pt x="579" y="4378"/>
                  </a:lnTo>
                  <a:lnTo>
                    <a:pt x="591" y="4411"/>
                  </a:lnTo>
                  <a:lnTo>
                    <a:pt x="602" y="4443"/>
                  </a:lnTo>
                  <a:lnTo>
                    <a:pt x="612" y="4474"/>
                  </a:lnTo>
                  <a:lnTo>
                    <a:pt x="622" y="4503"/>
                  </a:lnTo>
                  <a:lnTo>
                    <a:pt x="637" y="4557"/>
                  </a:lnTo>
                  <a:lnTo>
                    <a:pt x="645" y="4605"/>
                  </a:lnTo>
                  <a:lnTo>
                    <a:pt x="650" y="4649"/>
                  </a:lnTo>
                  <a:lnTo>
                    <a:pt x="651" y="4694"/>
                  </a:lnTo>
                  <a:lnTo>
                    <a:pt x="654" y="4737"/>
                  </a:lnTo>
                  <a:lnTo>
                    <a:pt x="663" y="4774"/>
                  </a:lnTo>
                  <a:lnTo>
                    <a:pt x="671" y="4806"/>
                  </a:lnTo>
                  <a:lnTo>
                    <a:pt x="680" y="4832"/>
                  </a:lnTo>
                  <a:lnTo>
                    <a:pt x="690" y="4871"/>
                  </a:lnTo>
                  <a:lnTo>
                    <a:pt x="699" y="4932"/>
                  </a:lnTo>
                  <a:lnTo>
                    <a:pt x="706" y="4995"/>
                  </a:lnTo>
                  <a:lnTo>
                    <a:pt x="711" y="5040"/>
                  </a:lnTo>
                  <a:lnTo>
                    <a:pt x="714" y="5080"/>
                  </a:lnTo>
                  <a:lnTo>
                    <a:pt x="721" y="5136"/>
                  </a:lnTo>
                  <a:lnTo>
                    <a:pt x="731" y="5193"/>
                  </a:lnTo>
                  <a:lnTo>
                    <a:pt x="741" y="5240"/>
                  </a:lnTo>
                  <a:lnTo>
                    <a:pt x="747" y="5278"/>
                  </a:lnTo>
                  <a:lnTo>
                    <a:pt x="748" y="5311"/>
                  </a:lnTo>
                  <a:lnTo>
                    <a:pt x="745" y="5339"/>
                  </a:lnTo>
                  <a:lnTo>
                    <a:pt x="741" y="5357"/>
                  </a:lnTo>
                  <a:lnTo>
                    <a:pt x="757" y="5454"/>
                  </a:lnTo>
                  <a:lnTo>
                    <a:pt x="756" y="5474"/>
                  </a:lnTo>
                  <a:lnTo>
                    <a:pt x="758" y="5496"/>
                  </a:lnTo>
                  <a:lnTo>
                    <a:pt x="761" y="5522"/>
                  </a:lnTo>
                  <a:lnTo>
                    <a:pt x="767" y="5548"/>
                  </a:lnTo>
                  <a:lnTo>
                    <a:pt x="774" y="5577"/>
                  </a:lnTo>
                  <a:lnTo>
                    <a:pt x="781" y="5604"/>
                  </a:lnTo>
                  <a:lnTo>
                    <a:pt x="787" y="5629"/>
                  </a:lnTo>
                  <a:lnTo>
                    <a:pt x="792" y="5654"/>
                  </a:lnTo>
                  <a:lnTo>
                    <a:pt x="797" y="5682"/>
                  </a:lnTo>
                  <a:lnTo>
                    <a:pt x="801" y="5720"/>
                  </a:lnTo>
                  <a:lnTo>
                    <a:pt x="807" y="5762"/>
                  </a:lnTo>
                  <a:lnTo>
                    <a:pt x="813" y="5807"/>
                  </a:lnTo>
                  <a:lnTo>
                    <a:pt x="819" y="5850"/>
                  </a:lnTo>
                  <a:lnTo>
                    <a:pt x="825" y="5888"/>
                  </a:lnTo>
                  <a:lnTo>
                    <a:pt x="831" y="5917"/>
                  </a:lnTo>
                  <a:lnTo>
                    <a:pt x="835" y="5936"/>
                  </a:lnTo>
                  <a:lnTo>
                    <a:pt x="843" y="5972"/>
                  </a:lnTo>
                  <a:lnTo>
                    <a:pt x="847" y="6028"/>
                  </a:lnTo>
                  <a:lnTo>
                    <a:pt x="850" y="6085"/>
                  </a:lnTo>
                  <a:lnTo>
                    <a:pt x="850" y="6127"/>
                  </a:lnTo>
                  <a:lnTo>
                    <a:pt x="852" y="6145"/>
                  </a:lnTo>
                  <a:lnTo>
                    <a:pt x="857" y="6169"/>
                  </a:lnTo>
                  <a:lnTo>
                    <a:pt x="864" y="6194"/>
                  </a:lnTo>
                  <a:lnTo>
                    <a:pt x="872" y="6222"/>
                  </a:lnTo>
                  <a:lnTo>
                    <a:pt x="881" y="6251"/>
                  </a:lnTo>
                  <a:lnTo>
                    <a:pt x="891" y="6276"/>
                  </a:lnTo>
                  <a:lnTo>
                    <a:pt x="899" y="6300"/>
                  </a:lnTo>
                  <a:lnTo>
                    <a:pt x="905" y="6317"/>
                  </a:lnTo>
                  <a:lnTo>
                    <a:pt x="911" y="6334"/>
                  </a:lnTo>
                  <a:lnTo>
                    <a:pt x="918" y="6355"/>
                  </a:lnTo>
                  <a:lnTo>
                    <a:pt x="925" y="6377"/>
                  </a:lnTo>
                  <a:lnTo>
                    <a:pt x="932" y="6400"/>
                  </a:lnTo>
                  <a:lnTo>
                    <a:pt x="939" y="6423"/>
                  </a:lnTo>
                  <a:lnTo>
                    <a:pt x="945" y="6443"/>
                  </a:lnTo>
                  <a:lnTo>
                    <a:pt x="948" y="6460"/>
                  </a:lnTo>
                  <a:lnTo>
                    <a:pt x="951" y="6471"/>
                  </a:lnTo>
                  <a:lnTo>
                    <a:pt x="955" y="6497"/>
                  </a:lnTo>
                  <a:lnTo>
                    <a:pt x="964" y="6534"/>
                  </a:lnTo>
                  <a:lnTo>
                    <a:pt x="973" y="6567"/>
                  </a:lnTo>
                  <a:lnTo>
                    <a:pt x="984" y="6586"/>
                  </a:lnTo>
                  <a:lnTo>
                    <a:pt x="988" y="6595"/>
                  </a:lnTo>
                  <a:lnTo>
                    <a:pt x="995" y="6610"/>
                  </a:lnTo>
                  <a:lnTo>
                    <a:pt x="1001" y="6629"/>
                  </a:lnTo>
                  <a:lnTo>
                    <a:pt x="1008" y="6650"/>
                  </a:lnTo>
                  <a:lnTo>
                    <a:pt x="1017" y="6672"/>
                  </a:lnTo>
                  <a:lnTo>
                    <a:pt x="1025" y="6693"/>
                  </a:lnTo>
                  <a:lnTo>
                    <a:pt x="1034" y="6709"/>
                  </a:lnTo>
                  <a:lnTo>
                    <a:pt x="1044" y="6719"/>
                  </a:lnTo>
                  <a:lnTo>
                    <a:pt x="1048" y="6747"/>
                  </a:lnTo>
                  <a:lnTo>
                    <a:pt x="1057" y="6792"/>
                  </a:lnTo>
                  <a:lnTo>
                    <a:pt x="1065" y="6839"/>
                  </a:lnTo>
                  <a:lnTo>
                    <a:pt x="1071" y="6874"/>
                  </a:lnTo>
                  <a:lnTo>
                    <a:pt x="1073" y="6889"/>
                  </a:lnTo>
                  <a:lnTo>
                    <a:pt x="1076" y="6909"/>
                  </a:lnTo>
                  <a:lnTo>
                    <a:pt x="1081" y="6931"/>
                  </a:lnTo>
                  <a:lnTo>
                    <a:pt x="1087" y="6954"/>
                  </a:lnTo>
                  <a:lnTo>
                    <a:pt x="1093" y="6977"/>
                  </a:lnTo>
                  <a:lnTo>
                    <a:pt x="1098" y="6998"/>
                  </a:lnTo>
                  <a:lnTo>
                    <a:pt x="1104" y="7015"/>
                  </a:lnTo>
                  <a:lnTo>
                    <a:pt x="1107" y="7026"/>
                  </a:lnTo>
                  <a:lnTo>
                    <a:pt x="1112" y="7048"/>
                  </a:lnTo>
                  <a:lnTo>
                    <a:pt x="1113" y="7074"/>
                  </a:lnTo>
                  <a:lnTo>
                    <a:pt x="1113" y="7100"/>
                  </a:lnTo>
                  <a:lnTo>
                    <a:pt x="1118" y="7119"/>
                  </a:lnTo>
                  <a:lnTo>
                    <a:pt x="1126" y="7143"/>
                  </a:lnTo>
                  <a:lnTo>
                    <a:pt x="1135" y="7179"/>
                  </a:lnTo>
                  <a:lnTo>
                    <a:pt x="1142" y="7217"/>
                  </a:lnTo>
                  <a:lnTo>
                    <a:pt x="1147" y="7246"/>
                  </a:lnTo>
                  <a:lnTo>
                    <a:pt x="1146" y="7274"/>
                  </a:lnTo>
                  <a:lnTo>
                    <a:pt x="1142" y="7309"/>
                  </a:lnTo>
                  <a:lnTo>
                    <a:pt x="1136" y="7345"/>
                  </a:lnTo>
                  <a:lnTo>
                    <a:pt x="1134" y="7369"/>
                  </a:lnTo>
                  <a:lnTo>
                    <a:pt x="1144" y="7395"/>
                  </a:lnTo>
                  <a:lnTo>
                    <a:pt x="1154" y="7429"/>
                  </a:lnTo>
                  <a:lnTo>
                    <a:pt x="1161" y="7469"/>
                  </a:lnTo>
                  <a:lnTo>
                    <a:pt x="1166" y="7509"/>
                  </a:lnTo>
                  <a:lnTo>
                    <a:pt x="1168" y="7529"/>
                  </a:lnTo>
                  <a:lnTo>
                    <a:pt x="1174" y="7548"/>
                  </a:lnTo>
                  <a:lnTo>
                    <a:pt x="1181" y="7567"/>
                  </a:lnTo>
                  <a:lnTo>
                    <a:pt x="1189" y="7585"/>
                  </a:lnTo>
                  <a:lnTo>
                    <a:pt x="1196" y="7602"/>
                  </a:lnTo>
                  <a:lnTo>
                    <a:pt x="1203" y="7618"/>
                  </a:lnTo>
                  <a:lnTo>
                    <a:pt x="1207" y="7633"/>
                  </a:lnTo>
                  <a:lnTo>
                    <a:pt x="1208" y="7646"/>
                  </a:lnTo>
                  <a:lnTo>
                    <a:pt x="1207" y="7667"/>
                  </a:lnTo>
                  <a:lnTo>
                    <a:pt x="1209" y="7683"/>
                  </a:lnTo>
                  <a:lnTo>
                    <a:pt x="1212" y="7698"/>
                  </a:lnTo>
                  <a:lnTo>
                    <a:pt x="1212" y="7710"/>
                  </a:lnTo>
                  <a:lnTo>
                    <a:pt x="1209" y="7736"/>
                  </a:lnTo>
                  <a:lnTo>
                    <a:pt x="1209" y="7779"/>
                  </a:lnTo>
                  <a:lnTo>
                    <a:pt x="1208" y="7822"/>
                  </a:lnTo>
                  <a:lnTo>
                    <a:pt x="1206" y="7851"/>
                  </a:lnTo>
                  <a:lnTo>
                    <a:pt x="1207" y="7864"/>
                  </a:lnTo>
                  <a:lnTo>
                    <a:pt x="1209" y="7888"/>
                  </a:lnTo>
                  <a:lnTo>
                    <a:pt x="1215" y="7916"/>
                  </a:lnTo>
                  <a:lnTo>
                    <a:pt x="1222" y="7948"/>
                  </a:lnTo>
                  <a:lnTo>
                    <a:pt x="1231" y="7981"/>
                  </a:lnTo>
                  <a:lnTo>
                    <a:pt x="1240" y="8011"/>
                  </a:lnTo>
                  <a:lnTo>
                    <a:pt x="1248" y="8040"/>
                  </a:lnTo>
                  <a:lnTo>
                    <a:pt x="1256" y="8060"/>
                  </a:lnTo>
                  <a:lnTo>
                    <a:pt x="1268" y="8095"/>
                  </a:lnTo>
                  <a:lnTo>
                    <a:pt x="1273" y="8128"/>
                  </a:lnTo>
                  <a:lnTo>
                    <a:pt x="1274" y="8155"/>
                  </a:lnTo>
                  <a:lnTo>
                    <a:pt x="1274" y="8173"/>
                  </a:lnTo>
                  <a:lnTo>
                    <a:pt x="1276" y="8190"/>
                  </a:lnTo>
                  <a:lnTo>
                    <a:pt x="1283" y="8215"/>
                  </a:lnTo>
                  <a:lnTo>
                    <a:pt x="1289" y="8247"/>
                  </a:lnTo>
                  <a:lnTo>
                    <a:pt x="1290" y="8285"/>
                  </a:lnTo>
                  <a:lnTo>
                    <a:pt x="1290" y="8307"/>
                  </a:lnTo>
                  <a:lnTo>
                    <a:pt x="1294" y="8330"/>
                  </a:lnTo>
                  <a:lnTo>
                    <a:pt x="1300" y="8356"/>
                  </a:lnTo>
                  <a:lnTo>
                    <a:pt x="1308" y="8382"/>
                  </a:lnTo>
                  <a:lnTo>
                    <a:pt x="1315" y="8407"/>
                  </a:lnTo>
                  <a:lnTo>
                    <a:pt x="1322" y="8432"/>
                  </a:lnTo>
                  <a:lnTo>
                    <a:pt x="1328" y="8455"/>
                  </a:lnTo>
                  <a:lnTo>
                    <a:pt x="1332" y="8476"/>
                  </a:lnTo>
                  <a:lnTo>
                    <a:pt x="1335" y="8495"/>
                  </a:lnTo>
                  <a:lnTo>
                    <a:pt x="1340" y="8518"/>
                  </a:lnTo>
                  <a:lnTo>
                    <a:pt x="1346" y="8538"/>
                  </a:lnTo>
                  <a:lnTo>
                    <a:pt x="1353" y="8559"/>
                  </a:lnTo>
                  <a:lnTo>
                    <a:pt x="1360" y="8579"/>
                  </a:lnTo>
                  <a:lnTo>
                    <a:pt x="1368" y="8596"/>
                  </a:lnTo>
                  <a:lnTo>
                    <a:pt x="1375" y="8611"/>
                  </a:lnTo>
                  <a:lnTo>
                    <a:pt x="1382" y="8622"/>
                  </a:lnTo>
                  <a:lnTo>
                    <a:pt x="1403" y="8619"/>
                  </a:lnTo>
                  <a:lnTo>
                    <a:pt x="1423" y="8618"/>
                  </a:lnTo>
                  <a:lnTo>
                    <a:pt x="1442" y="8616"/>
                  </a:lnTo>
                  <a:lnTo>
                    <a:pt x="1459" y="8614"/>
                  </a:lnTo>
                  <a:lnTo>
                    <a:pt x="1474" y="8612"/>
                  </a:lnTo>
                  <a:lnTo>
                    <a:pt x="1487" y="8611"/>
                  </a:lnTo>
                  <a:lnTo>
                    <a:pt x="1500" y="8611"/>
                  </a:lnTo>
                  <a:lnTo>
                    <a:pt x="1511" y="8611"/>
                  </a:lnTo>
                  <a:lnTo>
                    <a:pt x="1522" y="8611"/>
                  </a:lnTo>
                  <a:lnTo>
                    <a:pt x="1533" y="8611"/>
                  </a:lnTo>
                  <a:lnTo>
                    <a:pt x="1542" y="8611"/>
                  </a:lnTo>
                  <a:lnTo>
                    <a:pt x="1553" y="8611"/>
                  </a:lnTo>
                  <a:lnTo>
                    <a:pt x="1562" y="8609"/>
                  </a:lnTo>
                  <a:lnTo>
                    <a:pt x="1571" y="8608"/>
                  </a:lnTo>
                  <a:lnTo>
                    <a:pt x="1580" y="8607"/>
                  </a:lnTo>
                  <a:lnTo>
                    <a:pt x="1589" y="8606"/>
                  </a:lnTo>
                  <a:lnTo>
                    <a:pt x="1601" y="8603"/>
                  </a:lnTo>
                  <a:lnTo>
                    <a:pt x="1618" y="8600"/>
                  </a:lnTo>
                  <a:lnTo>
                    <a:pt x="1638" y="8594"/>
                  </a:lnTo>
                  <a:lnTo>
                    <a:pt x="1661" y="8587"/>
                  </a:lnTo>
                  <a:lnTo>
                    <a:pt x="1683" y="8580"/>
                  </a:lnTo>
                  <a:lnTo>
                    <a:pt x="1703" y="8574"/>
                  </a:lnTo>
                  <a:lnTo>
                    <a:pt x="1720" y="8568"/>
                  </a:lnTo>
                  <a:lnTo>
                    <a:pt x="1731" y="8562"/>
                  </a:lnTo>
                  <a:lnTo>
                    <a:pt x="1742" y="8557"/>
                  </a:lnTo>
                  <a:lnTo>
                    <a:pt x="1754" y="8551"/>
                  </a:lnTo>
                  <a:lnTo>
                    <a:pt x="1769" y="8546"/>
                  </a:lnTo>
                  <a:lnTo>
                    <a:pt x="1784" y="8541"/>
                  </a:lnTo>
                  <a:lnTo>
                    <a:pt x="1798" y="8536"/>
                  </a:lnTo>
                  <a:lnTo>
                    <a:pt x="1812" y="8532"/>
                  </a:lnTo>
                  <a:lnTo>
                    <a:pt x="1824" y="8529"/>
                  </a:lnTo>
                  <a:lnTo>
                    <a:pt x="1832" y="8526"/>
                  </a:lnTo>
                  <a:lnTo>
                    <a:pt x="1841" y="8524"/>
                  </a:lnTo>
                  <a:lnTo>
                    <a:pt x="1851" y="8521"/>
                  </a:lnTo>
                  <a:lnTo>
                    <a:pt x="1863" y="8518"/>
                  </a:lnTo>
                  <a:lnTo>
                    <a:pt x="1876" y="8515"/>
                  </a:lnTo>
                  <a:lnTo>
                    <a:pt x="1889" y="8513"/>
                  </a:lnTo>
                  <a:lnTo>
                    <a:pt x="1902" y="8510"/>
                  </a:lnTo>
                  <a:lnTo>
                    <a:pt x="1915" y="8510"/>
                  </a:lnTo>
                  <a:lnTo>
                    <a:pt x="1925" y="8510"/>
                  </a:lnTo>
                  <a:lnTo>
                    <a:pt x="1936" y="8511"/>
                  </a:lnTo>
                  <a:lnTo>
                    <a:pt x="1949" y="8511"/>
                  </a:lnTo>
                  <a:lnTo>
                    <a:pt x="1962" y="8513"/>
                  </a:lnTo>
                  <a:lnTo>
                    <a:pt x="1976" y="8513"/>
                  </a:lnTo>
                  <a:lnTo>
                    <a:pt x="1989" y="8514"/>
                  </a:lnTo>
                  <a:lnTo>
                    <a:pt x="2001" y="8514"/>
                  </a:lnTo>
                  <a:lnTo>
                    <a:pt x="2010" y="8515"/>
                  </a:lnTo>
                  <a:lnTo>
                    <a:pt x="2017" y="8516"/>
                  </a:lnTo>
                  <a:lnTo>
                    <a:pt x="2023" y="8518"/>
                  </a:lnTo>
                  <a:lnTo>
                    <a:pt x="2031" y="8518"/>
                  </a:lnTo>
                  <a:lnTo>
                    <a:pt x="2039" y="8518"/>
                  </a:lnTo>
                  <a:lnTo>
                    <a:pt x="2049" y="8518"/>
                  </a:lnTo>
                  <a:lnTo>
                    <a:pt x="2058" y="8516"/>
                  </a:lnTo>
                  <a:lnTo>
                    <a:pt x="2068" y="8515"/>
                  </a:lnTo>
                  <a:lnTo>
                    <a:pt x="2075" y="8514"/>
                  </a:lnTo>
                  <a:lnTo>
                    <a:pt x="2081" y="8513"/>
                  </a:lnTo>
                  <a:lnTo>
                    <a:pt x="2088" y="8510"/>
                  </a:lnTo>
                  <a:lnTo>
                    <a:pt x="2099" y="8504"/>
                  </a:lnTo>
                  <a:lnTo>
                    <a:pt x="2116" y="8497"/>
                  </a:lnTo>
                  <a:lnTo>
                    <a:pt x="2133" y="8488"/>
                  </a:lnTo>
                  <a:lnTo>
                    <a:pt x="2152" y="8481"/>
                  </a:lnTo>
                  <a:lnTo>
                    <a:pt x="2170" y="8473"/>
                  </a:lnTo>
                  <a:lnTo>
                    <a:pt x="2186" y="8467"/>
                  </a:lnTo>
                  <a:lnTo>
                    <a:pt x="2199" y="8464"/>
                  </a:lnTo>
                  <a:lnTo>
                    <a:pt x="2211" y="8461"/>
                  </a:lnTo>
                  <a:lnTo>
                    <a:pt x="2225" y="8459"/>
                  </a:lnTo>
                  <a:lnTo>
                    <a:pt x="2239" y="8455"/>
                  </a:lnTo>
                  <a:lnTo>
                    <a:pt x="2255" y="8451"/>
                  </a:lnTo>
                  <a:lnTo>
                    <a:pt x="2269" y="8448"/>
                  </a:lnTo>
                  <a:lnTo>
                    <a:pt x="2282" y="8443"/>
                  </a:lnTo>
                  <a:lnTo>
                    <a:pt x="2293" y="8440"/>
                  </a:lnTo>
                  <a:lnTo>
                    <a:pt x="2302" y="8437"/>
                  </a:lnTo>
                  <a:lnTo>
                    <a:pt x="2311" y="8434"/>
                  </a:lnTo>
                  <a:lnTo>
                    <a:pt x="2325" y="8429"/>
                  </a:lnTo>
                  <a:lnTo>
                    <a:pt x="2343" y="8426"/>
                  </a:lnTo>
                  <a:lnTo>
                    <a:pt x="2361" y="8421"/>
                  </a:lnTo>
                  <a:lnTo>
                    <a:pt x="2380" y="8416"/>
                  </a:lnTo>
                  <a:lnTo>
                    <a:pt x="2398" y="8411"/>
                  </a:lnTo>
                  <a:lnTo>
                    <a:pt x="2414" y="8408"/>
                  </a:lnTo>
                  <a:lnTo>
                    <a:pt x="2427" y="8406"/>
                  </a:lnTo>
                  <a:lnTo>
                    <a:pt x="2433" y="8405"/>
                  </a:lnTo>
                  <a:lnTo>
                    <a:pt x="2443" y="8404"/>
                  </a:lnTo>
                  <a:lnTo>
                    <a:pt x="2453" y="8400"/>
                  </a:lnTo>
                  <a:lnTo>
                    <a:pt x="2465" y="8397"/>
                  </a:lnTo>
                  <a:lnTo>
                    <a:pt x="2478" y="8393"/>
                  </a:lnTo>
                  <a:lnTo>
                    <a:pt x="2492" y="8389"/>
                  </a:lnTo>
                  <a:lnTo>
                    <a:pt x="2507" y="8384"/>
                  </a:lnTo>
                  <a:lnTo>
                    <a:pt x="2523" y="8379"/>
                  </a:lnTo>
                  <a:lnTo>
                    <a:pt x="2538" y="8374"/>
                  </a:lnTo>
                  <a:lnTo>
                    <a:pt x="2553" y="8369"/>
                  </a:lnTo>
                  <a:lnTo>
                    <a:pt x="2568" y="8364"/>
                  </a:lnTo>
                  <a:lnTo>
                    <a:pt x="2581" y="8359"/>
                  </a:lnTo>
                  <a:lnTo>
                    <a:pt x="2594" y="8356"/>
                  </a:lnTo>
                  <a:lnTo>
                    <a:pt x="2605" y="8352"/>
                  </a:lnTo>
                  <a:lnTo>
                    <a:pt x="2613" y="8350"/>
                  </a:lnTo>
                  <a:lnTo>
                    <a:pt x="2620" y="8347"/>
                  </a:lnTo>
                  <a:lnTo>
                    <a:pt x="2634" y="8344"/>
                  </a:lnTo>
                  <a:lnTo>
                    <a:pt x="2653" y="8337"/>
                  </a:lnTo>
                  <a:lnTo>
                    <a:pt x="2675" y="8330"/>
                  </a:lnTo>
                  <a:lnTo>
                    <a:pt x="2700" y="8324"/>
                  </a:lnTo>
                  <a:lnTo>
                    <a:pt x="2726" y="8317"/>
                  </a:lnTo>
                  <a:lnTo>
                    <a:pt x="2751" y="8310"/>
                  </a:lnTo>
                  <a:lnTo>
                    <a:pt x="2772" y="8307"/>
                  </a:lnTo>
                  <a:lnTo>
                    <a:pt x="2789" y="8304"/>
                  </a:lnTo>
                  <a:lnTo>
                    <a:pt x="2798" y="8303"/>
                  </a:lnTo>
                  <a:lnTo>
                    <a:pt x="2809" y="8303"/>
                  </a:lnTo>
                  <a:lnTo>
                    <a:pt x="2821" y="8302"/>
                  </a:lnTo>
                  <a:lnTo>
                    <a:pt x="2835" y="8301"/>
                  </a:lnTo>
                  <a:lnTo>
                    <a:pt x="2851" y="8299"/>
                  </a:lnTo>
                  <a:lnTo>
                    <a:pt x="2867" y="8298"/>
                  </a:lnTo>
                  <a:lnTo>
                    <a:pt x="2882" y="8297"/>
                  </a:lnTo>
                  <a:lnTo>
                    <a:pt x="2900" y="8296"/>
                  </a:lnTo>
                  <a:lnTo>
                    <a:pt x="2915" y="8293"/>
                  </a:lnTo>
                  <a:lnTo>
                    <a:pt x="2932" y="8292"/>
                  </a:lnTo>
                  <a:lnTo>
                    <a:pt x="2946" y="8291"/>
                  </a:lnTo>
                  <a:lnTo>
                    <a:pt x="2960" y="8290"/>
                  </a:lnTo>
                  <a:lnTo>
                    <a:pt x="2972" y="8288"/>
                  </a:lnTo>
                  <a:lnTo>
                    <a:pt x="2982" y="8286"/>
                  </a:lnTo>
                  <a:lnTo>
                    <a:pt x="2989" y="8285"/>
                  </a:lnTo>
                  <a:lnTo>
                    <a:pt x="2995" y="8284"/>
                  </a:lnTo>
                  <a:lnTo>
                    <a:pt x="3005" y="8282"/>
                  </a:lnTo>
                  <a:lnTo>
                    <a:pt x="3015" y="8281"/>
                  </a:lnTo>
                  <a:lnTo>
                    <a:pt x="3028" y="8281"/>
                  </a:lnTo>
                  <a:lnTo>
                    <a:pt x="3041" y="8280"/>
                  </a:lnTo>
                  <a:lnTo>
                    <a:pt x="3055" y="8280"/>
                  </a:lnTo>
                  <a:lnTo>
                    <a:pt x="3069" y="8280"/>
                  </a:lnTo>
                  <a:lnTo>
                    <a:pt x="3083" y="8279"/>
                  </a:lnTo>
                  <a:lnTo>
                    <a:pt x="3097" y="8277"/>
                  </a:lnTo>
                  <a:lnTo>
                    <a:pt x="3113" y="8274"/>
                  </a:lnTo>
                  <a:lnTo>
                    <a:pt x="3134" y="8270"/>
                  </a:lnTo>
                  <a:lnTo>
                    <a:pt x="3157" y="8265"/>
                  </a:lnTo>
                  <a:lnTo>
                    <a:pt x="3183" y="8260"/>
                  </a:lnTo>
                  <a:lnTo>
                    <a:pt x="3208" y="8255"/>
                  </a:lnTo>
                  <a:lnTo>
                    <a:pt x="3233" y="8252"/>
                  </a:lnTo>
                  <a:lnTo>
                    <a:pt x="3253" y="8248"/>
                  </a:lnTo>
                  <a:lnTo>
                    <a:pt x="3268" y="8247"/>
                  </a:lnTo>
                  <a:lnTo>
                    <a:pt x="3284" y="8246"/>
                  </a:lnTo>
                  <a:lnTo>
                    <a:pt x="3307" y="8242"/>
                  </a:lnTo>
                  <a:lnTo>
                    <a:pt x="3334" y="8238"/>
                  </a:lnTo>
                  <a:lnTo>
                    <a:pt x="3363" y="8233"/>
                  </a:lnTo>
                  <a:lnTo>
                    <a:pt x="3391" y="8228"/>
                  </a:lnTo>
                  <a:lnTo>
                    <a:pt x="3417" y="8222"/>
                  </a:lnTo>
                  <a:lnTo>
                    <a:pt x="3438" y="8217"/>
                  </a:lnTo>
                  <a:lnTo>
                    <a:pt x="3451" y="8212"/>
                  </a:lnTo>
                  <a:lnTo>
                    <a:pt x="3463" y="8206"/>
                  </a:lnTo>
                  <a:lnTo>
                    <a:pt x="3481" y="8199"/>
                  </a:lnTo>
                  <a:lnTo>
                    <a:pt x="3502" y="8190"/>
                  </a:lnTo>
                  <a:lnTo>
                    <a:pt x="3525" y="8181"/>
                  </a:lnTo>
                  <a:lnTo>
                    <a:pt x="3549" y="8172"/>
                  </a:lnTo>
                  <a:lnTo>
                    <a:pt x="3571" y="8163"/>
                  </a:lnTo>
                  <a:lnTo>
                    <a:pt x="3590" y="8156"/>
                  </a:lnTo>
                  <a:lnTo>
                    <a:pt x="3604" y="8151"/>
                  </a:lnTo>
                  <a:lnTo>
                    <a:pt x="3616" y="8147"/>
                  </a:lnTo>
                  <a:lnTo>
                    <a:pt x="3630" y="8144"/>
                  </a:lnTo>
                  <a:lnTo>
                    <a:pt x="3645" y="8141"/>
                  </a:lnTo>
                  <a:lnTo>
                    <a:pt x="3661" y="8139"/>
                  </a:lnTo>
                  <a:lnTo>
                    <a:pt x="3676" y="8136"/>
                  </a:lnTo>
                  <a:lnTo>
                    <a:pt x="3691" y="8134"/>
                  </a:lnTo>
                  <a:lnTo>
                    <a:pt x="3704" y="8130"/>
                  </a:lnTo>
                  <a:lnTo>
                    <a:pt x="3716" y="8127"/>
                  </a:lnTo>
                  <a:lnTo>
                    <a:pt x="3722" y="8124"/>
                  </a:lnTo>
                  <a:lnTo>
                    <a:pt x="3730" y="8121"/>
                  </a:lnTo>
                  <a:lnTo>
                    <a:pt x="3741" y="8116"/>
                  </a:lnTo>
                  <a:lnTo>
                    <a:pt x="3751" y="8112"/>
                  </a:lnTo>
                  <a:lnTo>
                    <a:pt x="3764" y="8106"/>
                  </a:lnTo>
                  <a:lnTo>
                    <a:pt x="3778" y="8101"/>
                  </a:lnTo>
                  <a:lnTo>
                    <a:pt x="3792" y="8095"/>
                  </a:lnTo>
                  <a:lnTo>
                    <a:pt x="3808" y="8089"/>
                  </a:lnTo>
                  <a:lnTo>
                    <a:pt x="3823" y="8083"/>
                  </a:lnTo>
                  <a:lnTo>
                    <a:pt x="3838" y="8076"/>
                  </a:lnTo>
                  <a:lnTo>
                    <a:pt x="3852" y="8072"/>
                  </a:lnTo>
                  <a:lnTo>
                    <a:pt x="3866" y="8065"/>
                  </a:lnTo>
                  <a:lnTo>
                    <a:pt x="3879" y="8060"/>
                  </a:lnTo>
                  <a:lnTo>
                    <a:pt x="3892" y="8056"/>
                  </a:lnTo>
                  <a:lnTo>
                    <a:pt x="3903" y="8052"/>
                  </a:lnTo>
                  <a:lnTo>
                    <a:pt x="3912" y="8048"/>
                  </a:lnTo>
                  <a:lnTo>
                    <a:pt x="3922" y="8045"/>
                  </a:lnTo>
                  <a:lnTo>
                    <a:pt x="3932" y="8041"/>
                  </a:lnTo>
                  <a:lnTo>
                    <a:pt x="3944" y="8037"/>
                  </a:lnTo>
                  <a:lnTo>
                    <a:pt x="3956" y="8034"/>
                  </a:lnTo>
                  <a:lnTo>
                    <a:pt x="3969" y="8030"/>
                  </a:lnTo>
                  <a:lnTo>
                    <a:pt x="3983" y="8026"/>
                  </a:lnTo>
                  <a:lnTo>
                    <a:pt x="3996" y="8022"/>
                  </a:lnTo>
                  <a:lnTo>
                    <a:pt x="4010" y="8019"/>
                  </a:lnTo>
                  <a:lnTo>
                    <a:pt x="4024" y="8015"/>
                  </a:lnTo>
                  <a:lnTo>
                    <a:pt x="4038" y="8011"/>
                  </a:lnTo>
                  <a:lnTo>
                    <a:pt x="4051" y="8008"/>
                  </a:lnTo>
                  <a:lnTo>
                    <a:pt x="4063" y="8005"/>
                  </a:lnTo>
                  <a:lnTo>
                    <a:pt x="4074" y="8003"/>
                  </a:lnTo>
                  <a:lnTo>
                    <a:pt x="4085" y="8000"/>
                  </a:lnTo>
                  <a:lnTo>
                    <a:pt x="4094" y="7999"/>
                  </a:lnTo>
                  <a:lnTo>
                    <a:pt x="4103" y="7998"/>
                  </a:lnTo>
                  <a:lnTo>
                    <a:pt x="4111" y="7997"/>
                  </a:lnTo>
                  <a:lnTo>
                    <a:pt x="4120" y="7996"/>
                  </a:lnTo>
                  <a:lnTo>
                    <a:pt x="4132" y="7996"/>
                  </a:lnTo>
                  <a:lnTo>
                    <a:pt x="4145" y="7994"/>
                  </a:lnTo>
                  <a:lnTo>
                    <a:pt x="4159" y="7993"/>
                  </a:lnTo>
                  <a:lnTo>
                    <a:pt x="4173" y="7992"/>
                  </a:lnTo>
                  <a:lnTo>
                    <a:pt x="4188" y="7991"/>
                  </a:lnTo>
                  <a:lnTo>
                    <a:pt x="4204" y="7989"/>
                  </a:lnTo>
                  <a:lnTo>
                    <a:pt x="4219" y="7989"/>
                  </a:lnTo>
                  <a:lnTo>
                    <a:pt x="4233" y="7988"/>
                  </a:lnTo>
                  <a:lnTo>
                    <a:pt x="4247" y="7988"/>
                  </a:lnTo>
                  <a:lnTo>
                    <a:pt x="4260" y="7987"/>
                  </a:lnTo>
                  <a:lnTo>
                    <a:pt x="4272" y="7987"/>
                  </a:lnTo>
                  <a:lnTo>
                    <a:pt x="4283" y="7986"/>
                  </a:lnTo>
                  <a:lnTo>
                    <a:pt x="4291" y="7986"/>
                  </a:lnTo>
                  <a:lnTo>
                    <a:pt x="4297" y="7986"/>
                  </a:lnTo>
                  <a:lnTo>
                    <a:pt x="4310" y="7986"/>
                  </a:lnTo>
                  <a:lnTo>
                    <a:pt x="4325" y="7986"/>
                  </a:lnTo>
                  <a:lnTo>
                    <a:pt x="4344" y="7987"/>
                  </a:lnTo>
                  <a:lnTo>
                    <a:pt x="4362" y="7987"/>
                  </a:lnTo>
                  <a:lnTo>
                    <a:pt x="4381" y="7988"/>
                  </a:lnTo>
                  <a:lnTo>
                    <a:pt x="4399" y="7989"/>
                  </a:lnTo>
                  <a:lnTo>
                    <a:pt x="4414" y="7992"/>
                  </a:lnTo>
                  <a:lnTo>
                    <a:pt x="4425" y="7996"/>
                  </a:lnTo>
                  <a:lnTo>
                    <a:pt x="4439" y="7988"/>
                  </a:lnTo>
                  <a:lnTo>
                    <a:pt x="4457" y="7981"/>
                  </a:lnTo>
                  <a:lnTo>
                    <a:pt x="4475" y="7975"/>
                  </a:lnTo>
                  <a:lnTo>
                    <a:pt x="4494" y="7967"/>
                  </a:lnTo>
                  <a:lnTo>
                    <a:pt x="4512" y="7962"/>
                  </a:lnTo>
                  <a:lnTo>
                    <a:pt x="4526" y="7959"/>
                  </a:lnTo>
                  <a:lnTo>
                    <a:pt x="4536" y="7956"/>
                  </a:lnTo>
                  <a:lnTo>
                    <a:pt x="4540" y="7955"/>
                  </a:lnTo>
                  <a:lnTo>
                    <a:pt x="4544" y="7955"/>
                  </a:lnTo>
                  <a:lnTo>
                    <a:pt x="4553" y="7955"/>
                  </a:lnTo>
                  <a:lnTo>
                    <a:pt x="4567" y="7955"/>
                  </a:lnTo>
                  <a:lnTo>
                    <a:pt x="4583" y="7955"/>
                  </a:lnTo>
                  <a:lnTo>
                    <a:pt x="4602" y="7954"/>
                  </a:lnTo>
                  <a:lnTo>
                    <a:pt x="4622" y="7953"/>
                  </a:lnTo>
                  <a:lnTo>
                    <a:pt x="4640" y="7951"/>
                  </a:lnTo>
                  <a:lnTo>
                    <a:pt x="4655" y="7948"/>
                  </a:lnTo>
                  <a:lnTo>
                    <a:pt x="4667" y="7944"/>
                  </a:lnTo>
                  <a:lnTo>
                    <a:pt x="4676" y="7942"/>
                  </a:lnTo>
                  <a:lnTo>
                    <a:pt x="4685" y="7939"/>
                  </a:lnTo>
                  <a:lnTo>
                    <a:pt x="4692" y="7937"/>
                  </a:lnTo>
                  <a:lnTo>
                    <a:pt x="4699" y="7934"/>
                  </a:lnTo>
                  <a:lnTo>
                    <a:pt x="4706" y="7932"/>
                  </a:lnTo>
                  <a:lnTo>
                    <a:pt x="4715" y="7931"/>
                  </a:lnTo>
                  <a:lnTo>
                    <a:pt x="4726" y="7929"/>
                  </a:lnTo>
                  <a:lnTo>
                    <a:pt x="4733" y="7928"/>
                  </a:lnTo>
                  <a:lnTo>
                    <a:pt x="4741" y="7927"/>
                  </a:lnTo>
                  <a:lnTo>
                    <a:pt x="4752" y="7926"/>
                  </a:lnTo>
                  <a:lnTo>
                    <a:pt x="4763" y="7923"/>
                  </a:lnTo>
                  <a:lnTo>
                    <a:pt x="4777" y="7920"/>
                  </a:lnTo>
                  <a:lnTo>
                    <a:pt x="4792" y="7917"/>
                  </a:lnTo>
                  <a:lnTo>
                    <a:pt x="4807" y="7912"/>
                  </a:lnTo>
                  <a:lnTo>
                    <a:pt x="4823" y="7909"/>
                  </a:lnTo>
                  <a:lnTo>
                    <a:pt x="4840" y="7904"/>
                  </a:lnTo>
                  <a:lnTo>
                    <a:pt x="4857" y="7899"/>
                  </a:lnTo>
                  <a:lnTo>
                    <a:pt x="4875" y="7893"/>
                  </a:lnTo>
                  <a:lnTo>
                    <a:pt x="4893" y="7886"/>
                  </a:lnTo>
                  <a:lnTo>
                    <a:pt x="4910" y="7880"/>
                  </a:lnTo>
                  <a:lnTo>
                    <a:pt x="4928" y="7873"/>
                  </a:lnTo>
                  <a:lnTo>
                    <a:pt x="4946" y="7866"/>
                  </a:lnTo>
                  <a:lnTo>
                    <a:pt x="4962" y="7858"/>
                  </a:lnTo>
                  <a:lnTo>
                    <a:pt x="4979" y="7851"/>
                  </a:lnTo>
                  <a:lnTo>
                    <a:pt x="4995" y="7844"/>
                  </a:lnTo>
                  <a:lnTo>
                    <a:pt x="5011" y="7837"/>
                  </a:lnTo>
                  <a:lnTo>
                    <a:pt x="5028" y="7833"/>
                  </a:lnTo>
                  <a:lnTo>
                    <a:pt x="5044" y="7826"/>
                  </a:lnTo>
                  <a:lnTo>
                    <a:pt x="5061" y="7823"/>
                  </a:lnTo>
                  <a:lnTo>
                    <a:pt x="5077" y="7818"/>
                  </a:lnTo>
                  <a:lnTo>
                    <a:pt x="5093" y="7814"/>
                  </a:lnTo>
                  <a:lnTo>
                    <a:pt x="5108" y="7812"/>
                  </a:lnTo>
                  <a:lnTo>
                    <a:pt x="5121" y="7808"/>
                  </a:lnTo>
                  <a:lnTo>
                    <a:pt x="5134" y="7806"/>
                  </a:lnTo>
                  <a:lnTo>
                    <a:pt x="5147" y="7804"/>
                  </a:lnTo>
                  <a:lnTo>
                    <a:pt x="5157" y="7802"/>
                  </a:lnTo>
                  <a:lnTo>
                    <a:pt x="5167" y="7801"/>
                  </a:lnTo>
                  <a:lnTo>
                    <a:pt x="5175" y="7799"/>
                  </a:lnTo>
                  <a:lnTo>
                    <a:pt x="5181" y="7798"/>
                  </a:lnTo>
                  <a:lnTo>
                    <a:pt x="5192" y="7796"/>
                  </a:lnTo>
                  <a:lnTo>
                    <a:pt x="5205" y="7793"/>
                  </a:lnTo>
                  <a:lnTo>
                    <a:pt x="5220" y="7791"/>
                  </a:lnTo>
                  <a:lnTo>
                    <a:pt x="5235" y="7787"/>
                  </a:lnTo>
                  <a:lnTo>
                    <a:pt x="5250" y="7784"/>
                  </a:lnTo>
                  <a:lnTo>
                    <a:pt x="5263" y="7777"/>
                  </a:lnTo>
                  <a:lnTo>
                    <a:pt x="5276" y="7773"/>
                  </a:lnTo>
                  <a:lnTo>
                    <a:pt x="5287" y="7765"/>
                  </a:lnTo>
                  <a:lnTo>
                    <a:pt x="5301" y="7759"/>
                  </a:lnTo>
                  <a:lnTo>
                    <a:pt x="5321" y="7757"/>
                  </a:lnTo>
                  <a:lnTo>
                    <a:pt x="5345" y="7755"/>
                  </a:lnTo>
                  <a:lnTo>
                    <a:pt x="5372" y="7755"/>
                  </a:lnTo>
                  <a:lnTo>
                    <a:pt x="5399" y="7758"/>
                  </a:lnTo>
                  <a:lnTo>
                    <a:pt x="5425" y="7759"/>
                  </a:lnTo>
                  <a:lnTo>
                    <a:pt x="5446" y="7761"/>
                  </a:lnTo>
                  <a:lnTo>
                    <a:pt x="5461" y="7763"/>
                  </a:lnTo>
                  <a:lnTo>
                    <a:pt x="5473" y="7763"/>
                  </a:lnTo>
                  <a:lnTo>
                    <a:pt x="5490" y="7761"/>
                  </a:lnTo>
                  <a:lnTo>
                    <a:pt x="5509" y="7760"/>
                  </a:lnTo>
                  <a:lnTo>
                    <a:pt x="5530" y="7757"/>
                  </a:lnTo>
                  <a:lnTo>
                    <a:pt x="5551" y="7754"/>
                  </a:lnTo>
                  <a:lnTo>
                    <a:pt x="5572" y="7752"/>
                  </a:lnTo>
                  <a:lnTo>
                    <a:pt x="5591" y="7749"/>
                  </a:lnTo>
                  <a:lnTo>
                    <a:pt x="5607" y="7749"/>
                  </a:lnTo>
                  <a:lnTo>
                    <a:pt x="5616" y="7749"/>
                  </a:lnTo>
                  <a:lnTo>
                    <a:pt x="5624" y="7748"/>
                  </a:lnTo>
                  <a:lnTo>
                    <a:pt x="5635" y="7746"/>
                  </a:lnTo>
                  <a:lnTo>
                    <a:pt x="5646" y="7743"/>
                  </a:lnTo>
                  <a:lnTo>
                    <a:pt x="5658" y="7741"/>
                  </a:lnTo>
                  <a:lnTo>
                    <a:pt x="5671" y="7738"/>
                  </a:lnTo>
                  <a:lnTo>
                    <a:pt x="5684" y="7735"/>
                  </a:lnTo>
                  <a:lnTo>
                    <a:pt x="5698" y="7731"/>
                  </a:lnTo>
                  <a:lnTo>
                    <a:pt x="5712" y="7728"/>
                  </a:lnTo>
                  <a:lnTo>
                    <a:pt x="5725" y="7725"/>
                  </a:lnTo>
                  <a:lnTo>
                    <a:pt x="5739" y="7722"/>
                  </a:lnTo>
                  <a:lnTo>
                    <a:pt x="5752" y="7720"/>
                  </a:lnTo>
                  <a:lnTo>
                    <a:pt x="5764" y="7717"/>
                  </a:lnTo>
                  <a:lnTo>
                    <a:pt x="5776" y="7716"/>
                  </a:lnTo>
                  <a:lnTo>
                    <a:pt x="5786" y="7715"/>
                  </a:lnTo>
                  <a:lnTo>
                    <a:pt x="5796" y="7715"/>
                  </a:lnTo>
                  <a:lnTo>
                    <a:pt x="5805" y="7715"/>
                  </a:lnTo>
                  <a:lnTo>
                    <a:pt x="5816" y="7715"/>
                  </a:lnTo>
                  <a:lnTo>
                    <a:pt x="5829" y="7715"/>
                  </a:lnTo>
                  <a:lnTo>
                    <a:pt x="5841" y="7714"/>
                  </a:lnTo>
                  <a:lnTo>
                    <a:pt x="5856" y="7712"/>
                  </a:lnTo>
                  <a:lnTo>
                    <a:pt x="5870" y="7710"/>
                  </a:lnTo>
                  <a:lnTo>
                    <a:pt x="5885" y="7709"/>
                  </a:lnTo>
                  <a:lnTo>
                    <a:pt x="5900" y="7705"/>
                  </a:lnTo>
                  <a:lnTo>
                    <a:pt x="5916" y="7703"/>
                  </a:lnTo>
                  <a:lnTo>
                    <a:pt x="5931" y="7699"/>
                  </a:lnTo>
                  <a:lnTo>
                    <a:pt x="5946" y="7694"/>
                  </a:lnTo>
                  <a:lnTo>
                    <a:pt x="5961" y="7689"/>
                  </a:lnTo>
                  <a:lnTo>
                    <a:pt x="5975" y="7683"/>
                  </a:lnTo>
                  <a:lnTo>
                    <a:pt x="5990" y="7676"/>
                  </a:lnTo>
                  <a:lnTo>
                    <a:pt x="6003" y="7668"/>
                  </a:lnTo>
                  <a:lnTo>
                    <a:pt x="6014" y="7660"/>
                  </a:lnTo>
                  <a:lnTo>
                    <a:pt x="6044" y="7661"/>
                  </a:lnTo>
                  <a:lnTo>
                    <a:pt x="6064" y="7649"/>
                  </a:lnTo>
                  <a:lnTo>
                    <a:pt x="6080" y="7650"/>
                  </a:lnTo>
                  <a:lnTo>
                    <a:pt x="6081" y="7649"/>
                  </a:lnTo>
                  <a:lnTo>
                    <a:pt x="6085" y="7646"/>
                  </a:lnTo>
                  <a:lnTo>
                    <a:pt x="6090" y="7643"/>
                  </a:lnTo>
                  <a:lnTo>
                    <a:pt x="6097" y="7639"/>
                  </a:lnTo>
                  <a:lnTo>
                    <a:pt x="6104" y="7635"/>
                  </a:lnTo>
                  <a:lnTo>
                    <a:pt x="6111" y="7633"/>
                  </a:lnTo>
                  <a:lnTo>
                    <a:pt x="6118" y="7632"/>
                  </a:lnTo>
                  <a:lnTo>
                    <a:pt x="6125" y="7632"/>
                  </a:lnTo>
                  <a:lnTo>
                    <a:pt x="6132" y="7633"/>
                  </a:lnTo>
                  <a:lnTo>
                    <a:pt x="6139" y="7632"/>
                  </a:lnTo>
                  <a:lnTo>
                    <a:pt x="6148" y="7630"/>
                  </a:lnTo>
                  <a:lnTo>
                    <a:pt x="6157" y="7629"/>
                  </a:lnTo>
                  <a:lnTo>
                    <a:pt x="6165" y="7628"/>
                  </a:lnTo>
                  <a:lnTo>
                    <a:pt x="6174" y="7627"/>
                  </a:lnTo>
                  <a:lnTo>
                    <a:pt x="6181" y="7627"/>
                  </a:lnTo>
                  <a:lnTo>
                    <a:pt x="6188" y="7628"/>
                  </a:lnTo>
                  <a:lnTo>
                    <a:pt x="6187" y="7594"/>
                  </a:lnTo>
                  <a:lnTo>
                    <a:pt x="6187" y="7564"/>
                  </a:lnTo>
                  <a:lnTo>
                    <a:pt x="6184" y="7538"/>
                  </a:lnTo>
                  <a:lnTo>
                    <a:pt x="6172" y="7514"/>
                  </a:lnTo>
                  <a:lnTo>
                    <a:pt x="6164" y="7503"/>
                  </a:lnTo>
                  <a:lnTo>
                    <a:pt x="6157" y="7494"/>
                  </a:lnTo>
                  <a:lnTo>
                    <a:pt x="6149" y="7486"/>
                  </a:lnTo>
                  <a:lnTo>
                    <a:pt x="6144" y="7475"/>
                  </a:lnTo>
                  <a:lnTo>
                    <a:pt x="6138" y="7463"/>
                  </a:lnTo>
                  <a:lnTo>
                    <a:pt x="6133" y="7444"/>
                  </a:lnTo>
                  <a:lnTo>
                    <a:pt x="6127" y="7418"/>
                  </a:lnTo>
                  <a:lnTo>
                    <a:pt x="6122" y="7385"/>
                  </a:lnTo>
                  <a:lnTo>
                    <a:pt x="6117" y="7322"/>
                  </a:lnTo>
                  <a:lnTo>
                    <a:pt x="6113" y="7280"/>
                  </a:lnTo>
                  <a:lnTo>
                    <a:pt x="6111" y="7253"/>
                  </a:lnTo>
                  <a:lnTo>
                    <a:pt x="6106" y="7233"/>
                  </a:lnTo>
                  <a:lnTo>
                    <a:pt x="6101" y="7210"/>
                  </a:lnTo>
                  <a:lnTo>
                    <a:pt x="6097" y="7177"/>
                  </a:lnTo>
                  <a:lnTo>
                    <a:pt x="6090" y="7140"/>
                  </a:lnTo>
                  <a:lnTo>
                    <a:pt x="6077" y="7106"/>
                  </a:lnTo>
                  <a:lnTo>
                    <a:pt x="6065" y="7070"/>
                  </a:lnTo>
                  <a:lnTo>
                    <a:pt x="6058" y="7032"/>
                  </a:lnTo>
                  <a:lnTo>
                    <a:pt x="6055" y="6993"/>
                  </a:lnTo>
                  <a:lnTo>
                    <a:pt x="6055" y="6956"/>
                  </a:lnTo>
                  <a:lnTo>
                    <a:pt x="6055" y="6917"/>
                  </a:lnTo>
                  <a:lnTo>
                    <a:pt x="6053" y="6873"/>
                  </a:lnTo>
                  <a:lnTo>
                    <a:pt x="6046" y="6830"/>
                  </a:lnTo>
                  <a:lnTo>
                    <a:pt x="6034" y="6796"/>
                  </a:lnTo>
                  <a:lnTo>
                    <a:pt x="6027" y="6782"/>
                  </a:lnTo>
                  <a:lnTo>
                    <a:pt x="6023" y="6770"/>
                  </a:lnTo>
                  <a:lnTo>
                    <a:pt x="6017" y="6757"/>
                  </a:lnTo>
                  <a:lnTo>
                    <a:pt x="6012" y="6741"/>
                  </a:lnTo>
                  <a:lnTo>
                    <a:pt x="6006" y="6721"/>
                  </a:lnTo>
                  <a:lnTo>
                    <a:pt x="5998" y="6695"/>
                  </a:lnTo>
                  <a:lnTo>
                    <a:pt x="5990" y="6665"/>
                  </a:lnTo>
                  <a:lnTo>
                    <a:pt x="5979" y="6624"/>
                  </a:lnTo>
                  <a:lnTo>
                    <a:pt x="5967" y="6583"/>
                  </a:lnTo>
                  <a:lnTo>
                    <a:pt x="5955" y="6546"/>
                  </a:lnTo>
                  <a:lnTo>
                    <a:pt x="5944" y="6514"/>
                  </a:lnTo>
                  <a:lnTo>
                    <a:pt x="5934" y="6486"/>
                  </a:lnTo>
                  <a:lnTo>
                    <a:pt x="5926" y="6460"/>
                  </a:lnTo>
                  <a:lnTo>
                    <a:pt x="5919" y="6436"/>
                  </a:lnTo>
                  <a:lnTo>
                    <a:pt x="5914" y="6414"/>
                  </a:lnTo>
                  <a:lnTo>
                    <a:pt x="5912" y="6392"/>
                  </a:lnTo>
                  <a:lnTo>
                    <a:pt x="5912" y="6356"/>
                  </a:lnTo>
                  <a:lnTo>
                    <a:pt x="5916" y="6334"/>
                  </a:lnTo>
                  <a:lnTo>
                    <a:pt x="5920" y="6317"/>
                  </a:lnTo>
                  <a:lnTo>
                    <a:pt x="5924" y="6297"/>
                  </a:lnTo>
                  <a:lnTo>
                    <a:pt x="5919" y="6279"/>
                  </a:lnTo>
                  <a:lnTo>
                    <a:pt x="5913" y="6259"/>
                  </a:lnTo>
                  <a:lnTo>
                    <a:pt x="5907" y="6238"/>
                  </a:lnTo>
                  <a:lnTo>
                    <a:pt x="5899" y="6215"/>
                  </a:lnTo>
                  <a:lnTo>
                    <a:pt x="5892" y="6193"/>
                  </a:lnTo>
                  <a:lnTo>
                    <a:pt x="5884" y="6171"/>
                  </a:lnTo>
                  <a:lnTo>
                    <a:pt x="5876" y="6150"/>
                  </a:lnTo>
                  <a:lnTo>
                    <a:pt x="5867" y="6131"/>
                  </a:lnTo>
                  <a:lnTo>
                    <a:pt x="5853" y="6097"/>
                  </a:lnTo>
                  <a:lnTo>
                    <a:pt x="5844" y="6068"/>
                  </a:lnTo>
                  <a:lnTo>
                    <a:pt x="5838" y="6036"/>
                  </a:lnTo>
                  <a:lnTo>
                    <a:pt x="5834" y="5995"/>
                  </a:lnTo>
                  <a:lnTo>
                    <a:pt x="5832" y="5968"/>
                  </a:lnTo>
                  <a:lnTo>
                    <a:pt x="5829" y="5937"/>
                  </a:lnTo>
                  <a:lnTo>
                    <a:pt x="5823" y="5903"/>
                  </a:lnTo>
                  <a:lnTo>
                    <a:pt x="5817" y="5868"/>
                  </a:lnTo>
                  <a:lnTo>
                    <a:pt x="5810" y="5833"/>
                  </a:lnTo>
                  <a:lnTo>
                    <a:pt x="5803" y="5798"/>
                  </a:lnTo>
                  <a:lnTo>
                    <a:pt x="5794" y="5765"/>
                  </a:lnTo>
                  <a:lnTo>
                    <a:pt x="5786" y="5736"/>
                  </a:lnTo>
                  <a:lnTo>
                    <a:pt x="5774" y="5682"/>
                  </a:lnTo>
                  <a:lnTo>
                    <a:pt x="5769" y="5631"/>
                  </a:lnTo>
                  <a:lnTo>
                    <a:pt x="5769" y="5583"/>
                  </a:lnTo>
                  <a:lnTo>
                    <a:pt x="5772" y="5539"/>
                  </a:lnTo>
                  <a:lnTo>
                    <a:pt x="5777" y="5498"/>
                  </a:lnTo>
                  <a:lnTo>
                    <a:pt x="5781" y="5463"/>
                  </a:lnTo>
                  <a:lnTo>
                    <a:pt x="5785" y="5435"/>
                  </a:lnTo>
                  <a:lnTo>
                    <a:pt x="5789" y="5414"/>
                  </a:lnTo>
                  <a:lnTo>
                    <a:pt x="5783" y="5399"/>
                  </a:lnTo>
                  <a:lnTo>
                    <a:pt x="5776" y="5383"/>
                  </a:lnTo>
                  <a:lnTo>
                    <a:pt x="5770" y="5366"/>
                  </a:lnTo>
                  <a:lnTo>
                    <a:pt x="5763" y="5349"/>
                  </a:lnTo>
                  <a:lnTo>
                    <a:pt x="5756" y="5330"/>
                  </a:lnTo>
                  <a:lnTo>
                    <a:pt x="5749" y="5312"/>
                  </a:lnTo>
                  <a:lnTo>
                    <a:pt x="5742" y="5292"/>
                  </a:lnTo>
                  <a:lnTo>
                    <a:pt x="5733" y="5273"/>
                  </a:lnTo>
                  <a:lnTo>
                    <a:pt x="5723" y="5226"/>
                  </a:lnTo>
                  <a:lnTo>
                    <a:pt x="5722" y="5172"/>
                  </a:lnTo>
                  <a:lnTo>
                    <a:pt x="5724" y="5118"/>
                  </a:lnTo>
                  <a:lnTo>
                    <a:pt x="5725" y="5072"/>
                  </a:lnTo>
                  <a:lnTo>
                    <a:pt x="5726" y="5020"/>
                  </a:lnTo>
                  <a:lnTo>
                    <a:pt x="5731" y="4954"/>
                  </a:lnTo>
                  <a:lnTo>
                    <a:pt x="5732" y="4893"/>
                  </a:lnTo>
                  <a:lnTo>
                    <a:pt x="5726" y="4851"/>
                  </a:lnTo>
                  <a:lnTo>
                    <a:pt x="5719" y="4835"/>
                  </a:lnTo>
                  <a:lnTo>
                    <a:pt x="5711" y="4814"/>
                  </a:lnTo>
                  <a:lnTo>
                    <a:pt x="5702" y="4789"/>
                  </a:lnTo>
                  <a:lnTo>
                    <a:pt x="5691" y="4761"/>
                  </a:lnTo>
                  <a:lnTo>
                    <a:pt x="5682" y="4732"/>
                  </a:lnTo>
                  <a:lnTo>
                    <a:pt x="5672" y="4705"/>
                  </a:lnTo>
                  <a:lnTo>
                    <a:pt x="5666" y="4681"/>
                  </a:lnTo>
                  <a:lnTo>
                    <a:pt x="5663" y="4660"/>
                  </a:lnTo>
                  <a:lnTo>
                    <a:pt x="5662" y="4615"/>
                  </a:lnTo>
                  <a:lnTo>
                    <a:pt x="5663" y="4560"/>
                  </a:lnTo>
                  <a:lnTo>
                    <a:pt x="5659" y="4506"/>
                  </a:lnTo>
                  <a:lnTo>
                    <a:pt x="5645" y="4466"/>
                  </a:lnTo>
                  <a:lnTo>
                    <a:pt x="5635" y="4452"/>
                  </a:lnTo>
                  <a:lnTo>
                    <a:pt x="5623" y="4437"/>
                  </a:lnTo>
                  <a:lnTo>
                    <a:pt x="5612" y="4420"/>
                  </a:lnTo>
                  <a:lnTo>
                    <a:pt x="5603" y="4402"/>
                  </a:lnTo>
                  <a:lnTo>
                    <a:pt x="5592" y="4382"/>
                  </a:lnTo>
                  <a:lnTo>
                    <a:pt x="5585" y="4360"/>
                  </a:lnTo>
                  <a:lnTo>
                    <a:pt x="5578" y="4337"/>
                  </a:lnTo>
                  <a:lnTo>
                    <a:pt x="5573" y="4311"/>
                  </a:lnTo>
                  <a:lnTo>
                    <a:pt x="5572" y="4253"/>
                  </a:lnTo>
                  <a:lnTo>
                    <a:pt x="5578" y="4197"/>
                  </a:lnTo>
                  <a:lnTo>
                    <a:pt x="5588" y="4149"/>
                  </a:lnTo>
                  <a:lnTo>
                    <a:pt x="5593" y="4118"/>
                  </a:lnTo>
                  <a:lnTo>
                    <a:pt x="5583" y="4098"/>
                  </a:lnTo>
                  <a:lnTo>
                    <a:pt x="5573" y="4073"/>
                  </a:lnTo>
                  <a:lnTo>
                    <a:pt x="5565" y="4049"/>
                  </a:lnTo>
                  <a:lnTo>
                    <a:pt x="5559" y="4024"/>
                  </a:lnTo>
                  <a:lnTo>
                    <a:pt x="5553" y="4002"/>
                  </a:lnTo>
                  <a:lnTo>
                    <a:pt x="5549" y="3984"/>
                  </a:lnTo>
                  <a:lnTo>
                    <a:pt x="5546" y="3973"/>
                  </a:lnTo>
                  <a:lnTo>
                    <a:pt x="5545" y="3968"/>
                  </a:lnTo>
                  <a:lnTo>
                    <a:pt x="5548" y="3955"/>
                  </a:lnTo>
                  <a:lnTo>
                    <a:pt x="5552" y="3922"/>
                  </a:lnTo>
                  <a:lnTo>
                    <a:pt x="5551" y="3878"/>
                  </a:lnTo>
                  <a:lnTo>
                    <a:pt x="5538" y="3832"/>
                  </a:lnTo>
                  <a:lnTo>
                    <a:pt x="5531" y="3812"/>
                  </a:lnTo>
                  <a:lnTo>
                    <a:pt x="5530" y="3796"/>
                  </a:lnTo>
                  <a:lnTo>
                    <a:pt x="5532" y="3784"/>
                  </a:lnTo>
                  <a:lnTo>
                    <a:pt x="5536" y="3773"/>
                  </a:lnTo>
                  <a:lnTo>
                    <a:pt x="5539" y="3763"/>
                  </a:lnTo>
                  <a:lnTo>
                    <a:pt x="5540" y="3751"/>
                  </a:lnTo>
                  <a:lnTo>
                    <a:pt x="5538" y="3736"/>
                  </a:lnTo>
                  <a:lnTo>
                    <a:pt x="5529" y="3718"/>
                  </a:lnTo>
                  <a:lnTo>
                    <a:pt x="5516" y="3697"/>
                  </a:lnTo>
                  <a:lnTo>
                    <a:pt x="5504" y="3675"/>
                  </a:lnTo>
                  <a:lnTo>
                    <a:pt x="5492" y="3653"/>
                  </a:lnTo>
                  <a:lnTo>
                    <a:pt x="5483" y="3632"/>
                  </a:lnTo>
                  <a:lnTo>
                    <a:pt x="5475" y="3611"/>
                  </a:lnTo>
                  <a:lnTo>
                    <a:pt x="5470" y="3592"/>
                  </a:lnTo>
                  <a:lnTo>
                    <a:pt x="5469" y="3573"/>
                  </a:lnTo>
                  <a:lnTo>
                    <a:pt x="5471" y="3556"/>
                  </a:lnTo>
                  <a:lnTo>
                    <a:pt x="5476" y="3540"/>
                  </a:lnTo>
                  <a:lnTo>
                    <a:pt x="5479" y="3525"/>
                  </a:lnTo>
                  <a:lnTo>
                    <a:pt x="5483" y="3511"/>
                  </a:lnTo>
                  <a:lnTo>
                    <a:pt x="5485" y="3496"/>
                  </a:lnTo>
                  <a:lnTo>
                    <a:pt x="5484" y="3483"/>
                  </a:lnTo>
                  <a:lnTo>
                    <a:pt x="5481" y="3469"/>
                  </a:lnTo>
                  <a:lnTo>
                    <a:pt x="5473" y="3457"/>
                  </a:lnTo>
                  <a:lnTo>
                    <a:pt x="5463" y="3445"/>
                  </a:lnTo>
                  <a:lnTo>
                    <a:pt x="5452" y="3432"/>
                  </a:lnTo>
                  <a:lnTo>
                    <a:pt x="5445" y="3416"/>
                  </a:lnTo>
                  <a:lnTo>
                    <a:pt x="5443" y="3399"/>
                  </a:lnTo>
                  <a:lnTo>
                    <a:pt x="5443" y="3382"/>
                  </a:lnTo>
                  <a:lnTo>
                    <a:pt x="5445" y="3364"/>
                  </a:lnTo>
                  <a:lnTo>
                    <a:pt x="5448" y="3344"/>
                  </a:lnTo>
                  <a:lnTo>
                    <a:pt x="5451" y="3327"/>
                  </a:lnTo>
                  <a:lnTo>
                    <a:pt x="5455" y="3310"/>
                  </a:lnTo>
                  <a:lnTo>
                    <a:pt x="5456" y="3290"/>
                  </a:lnTo>
                  <a:lnTo>
                    <a:pt x="5456" y="3262"/>
                  </a:lnTo>
                  <a:lnTo>
                    <a:pt x="5452" y="3229"/>
                  </a:lnTo>
                  <a:lnTo>
                    <a:pt x="5448" y="3191"/>
                  </a:lnTo>
                  <a:lnTo>
                    <a:pt x="5441" y="3152"/>
                  </a:lnTo>
                  <a:lnTo>
                    <a:pt x="5432" y="3112"/>
                  </a:lnTo>
                  <a:lnTo>
                    <a:pt x="5423" y="3074"/>
                  </a:lnTo>
                  <a:lnTo>
                    <a:pt x="5412" y="3040"/>
                  </a:lnTo>
                  <a:lnTo>
                    <a:pt x="5401" y="3007"/>
                  </a:lnTo>
                  <a:lnTo>
                    <a:pt x="5389" y="2974"/>
                  </a:lnTo>
                  <a:lnTo>
                    <a:pt x="5376" y="2938"/>
                  </a:lnTo>
                  <a:lnTo>
                    <a:pt x="5364" y="2903"/>
                  </a:lnTo>
                  <a:lnTo>
                    <a:pt x="5351" y="2867"/>
                  </a:lnTo>
                  <a:lnTo>
                    <a:pt x="5339" y="2832"/>
                  </a:lnTo>
                  <a:lnTo>
                    <a:pt x="5328" y="2799"/>
                  </a:lnTo>
                  <a:lnTo>
                    <a:pt x="5318" y="2766"/>
                  </a:lnTo>
                  <a:lnTo>
                    <a:pt x="5323" y="2718"/>
                  </a:lnTo>
                  <a:lnTo>
                    <a:pt x="5330" y="2649"/>
                  </a:lnTo>
                  <a:lnTo>
                    <a:pt x="5336" y="2579"/>
                  </a:lnTo>
                  <a:lnTo>
                    <a:pt x="5337" y="2528"/>
                  </a:lnTo>
                  <a:lnTo>
                    <a:pt x="5335" y="2508"/>
                  </a:lnTo>
                  <a:lnTo>
                    <a:pt x="5332" y="2485"/>
                  </a:lnTo>
                  <a:lnTo>
                    <a:pt x="5329" y="2459"/>
                  </a:lnTo>
                  <a:lnTo>
                    <a:pt x="5324" y="2434"/>
                  </a:lnTo>
                  <a:lnTo>
                    <a:pt x="5318" y="2408"/>
                  </a:lnTo>
                  <a:lnTo>
                    <a:pt x="5311" y="2382"/>
                  </a:lnTo>
                  <a:lnTo>
                    <a:pt x="5304" y="2358"/>
                  </a:lnTo>
                  <a:lnTo>
                    <a:pt x="5295" y="2337"/>
                  </a:lnTo>
                  <a:lnTo>
                    <a:pt x="5281" y="2299"/>
                  </a:lnTo>
                  <a:lnTo>
                    <a:pt x="5274" y="2258"/>
                  </a:lnTo>
                  <a:lnTo>
                    <a:pt x="5271" y="2218"/>
                  </a:lnTo>
                  <a:lnTo>
                    <a:pt x="5274" y="2173"/>
                  </a:lnTo>
                  <a:lnTo>
                    <a:pt x="5275" y="2100"/>
                  </a:lnTo>
                  <a:lnTo>
                    <a:pt x="5271" y="2000"/>
                  </a:lnTo>
                  <a:lnTo>
                    <a:pt x="5262" y="1899"/>
                  </a:lnTo>
                  <a:lnTo>
                    <a:pt x="5245" y="1829"/>
                  </a:lnTo>
                  <a:lnTo>
                    <a:pt x="5257" y="1780"/>
                  </a:lnTo>
                  <a:lnTo>
                    <a:pt x="5256" y="1778"/>
                  </a:lnTo>
                  <a:lnTo>
                    <a:pt x="5251" y="1769"/>
                  </a:lnTo>
                  <a:lnTo>
                    <a:pt x="5247" y="1757"/>
                  </a:lnTo>
                  <a:lnTo>
                    <a:pt x="5241" y="1744"/>
                  </a:lnTo>
                  <a:lnTo>
                    <a:pt x="5234" y="1728"/>
                  </a:lnTo>
                  <a:lnTo>
                    <a:pt x="5229" y="1712"/>
                  </a:lnTo>
                  <a:lnTo>
                    <a:pt x="5227" y="1697"/>
                  </a:lnTo>
                  <a:lnTo>
                    <a:pt x="5227" y="1685"/>
                  </a:lnTo>
                  <a:lnTo>
                    <a:pt x="5229" y="1674"/>
                  </a:lnTo>
                  <a:lnTo>
                    <a:pt x="5232" y="1664"/>
                  </a:lnTo>
                  <a:lnTo>
                    <a:pt x="5235" y="1653"/>
                  </a:lnTo>
                  <a:lnTo>
                    <a:pt x="5237" y="1641"/>
                  </a:lnTo>
                  <a:lnTo>
                    <a:pt x="5236" y="1627"/>
                  </a:lnTo>
                  <a:lnTo>
                    <a:pt x="5232" y="1611"/>
                  </a:lnTo>
                  <a:lnTo>
                    <a:pt x="5224" y="1592"/>
                  </a:lnTo>
                  <a:lnTo>
                    <a:pt x="5211" y="1568"/>
                  </a:lnTo>
                  <a:lnTo>
                    <a:pt x="5216" y="1510"/>
                  </a:lnTo>
                  <a:lnTo>
                    <a:pt x="5217" y="1434"/>
                  </a:lnTo>
                  <a:lnTo>
                    <a:pt x="5216" y="1359"/>
                  </a:lnTo>
                  <a:lnTo>
                    <a:pt x="5212" y="1304"/>
                  </a:lnTo>
                  <a:lnTo>
                    <a:pt x="5209" y="1283"/>
                  </a:lnTo>
                  <a:lnTo>
                    <a:pt x="5201" y="1261"/>
                  </a:lnTo>
                  <a:lnTo>
                    <a:pt x="5191" y="1239"/>
                  </a:lnTo>
                  <a:lnTo>
                    <a:pt x="5180" y="1218"/>
                  </a:lnTo>
                  <a:lnTo>
                    <a:pt x="5165" y="1197"/>
                  </a:lnTo>
                  <a:lnTo>
                    <a:pt x="5150" y="1178"/>
                  </a:lnTo>
                  <a:lnTo>
                    <a:pt x="5135" y="1160"/>
                  </a:lnTo>
                  <a:lnTo>
                    <a:pt x="5120" y="1147"/>
                  </a:lnTo>
                  <a:lnTo>
                    <a:pt x="5105" y="1130"/>
                  </a:lnTo>
                  <a:lnTo>
                    <a:pt x="5095" y="1107"/>
                  </a:lnTo>
                  <a:lnTo>
                    <a:pt x="5087" y="1078"/>
                  </a:lnTo>
                  <a:lnTo>
                    <a:pt x="5080" y="1046"/>
                  </a:lnTo>
                  <a:lnTo>
                    <a:pt x="5075" y="1016"/>
                  </a:lnTo>
                  <a:lnTo>
                    <a:pt x="5070" y="985"/>
                  </a:lnTo>
                  <a:lnTo>
                    <a:pt x="5067" y="961"/>
                  </a:lnTo>
                  <a:lnTo>
                    <a:pt x="5063" y="941"/>
                  </a:lnTo>
                  <a:lnTo>
                    <a:pt x="5058" y="926"/>
                  </a:lnTo>
                  <a:lnTo>
                    <a:pt x="5051" y="912"/>
                  </a:lnTo>
                  <a:lnTo>
                    <a:pt x="5044" y="896"/>
                  </a:lnTo>
                  <a:lnTo>
                    <a:pt x="5038" y="879"/>
                  </a:lnTo>
                  <a:lnTo>
                    <a:pt x="5033" y="861"/>
                  </a:lnTo>
                  <a:lnTo>
                    <a:pt x="5028" y="843"/>
                  </a:lnTo>
                  <a:lnTo>
                    <a:pt x="5027" y="823"/>
                  </a:lnTo>
                  <a:lnTo>
                    <a:pt x="5028" y="803"/>
                  </a:lnTo>
                  <a:lnTo>
                    <a:pt x="5036" y="757"/>
                  </a:lnTo>
                  <a:lnTo>
                    <a:pt x="5046" y="713"/>
                  </a:lnTo>
                  <a:lnTo>
                    <a:pt x="5053" y="673"/>
                  </a:lnTo>
                  <a:lnTo>
                    <a:pt x="5053" y="638"/>
                  </a:lnTo>
                  <a:lnTo>
                    <a:pt x="5048" y="620"/>
                  </a:lnTo>
                  <a:lnTo>
                    <a:pt x="5041" y="597"/>
                  </a:lnTo>
                  <a:lnTo>
                    <a:pt x="5031" y="569"/>
                  </a:lnTo>
                  <a:lnTo>
                    <a:pt x="5020" y="539"/>
                  </a:lnTo>
                  <a:lnTo>
                    <a:pt x="5008" y="510"/>
                  </a:lnTo>
                  <a:lnTo>
                    <a:pt x="4994" y="482"/>
                  </a:lnTo>
                  <a:lnTo>
                    <a:pt x="4981" y="457"/>
                  </a:lnTo>
                  <a:lnTo>
                    <a:pt x="4968" y="437"/>
                  </a:lnTo>
                  <a:lnTo>
                    <a:pt x="4971" y="404"/>
                  </a:lnTo>
                  <a:lnTo>
                    <a:pt x="4973" y="365"/>
                  </a:lnTo>
                  <a:lnTo>
                    <a:pt x="4968" y="325"/>
                  </a:lnTo>
                  <a:lnTo>
                    <a:pt x="4953" y="288"/>
                  </a:lnTo>
                  <a:lnTo>
                    <a:pt x="4954" y="254"/>
                  </a:lnTo>
                  <a:lnTo>
                    <a:pt x="4950" y="221"/>
                  </a:lnTo>
                  <a:lnTo>
                    <a:pt x="4941" y="186"/>
                  </a:lnTo>
                  <a:lnTo>
                    <a:pt x="4926" y="152"/>
                  </a:lnTo>
                  <a:lnTo>
                    <a:pt x="4917" y="136"/>
                  </a:lnTo>
                  <a:lnTo>
                    <a:pt x="4910" y="124"/>
                  </a:lnTo>
                  <a:lnTo>
                    <a:pt x="4906" y="113"/>
                  </a:lnTo>
                  <a:lnTo>
                    <a:pt x="4902" y="103"/>
                  </a:lnTo>
                  <a:lnTo>
                    <a:pt x="4899" y="93"/>
                  </a:lnTo>
                  <a:lnTo>
                    <a:pt x="4895" y="82"/>
                  </a:lnTo>
                  <a:lnTo>
                    <a:pt x="4892" y="70"/>
                  </a:lnTo>
                  <a:lnTo>
                    <a:pt x="4886" y="55"/>
                  </a:lnTo>
                  <a:lnTo>
                    <a:pt x="4879" y="39"/>
                  </a:lnTo>
                  <a:lnTo>
                    <a:pt x="4872" y="26"/>
                  </a:lnTo>
                  <a:lnTo>
                    <a:pt x="4862" y="15"/>
                  </a:lnTo>
                  <a:lnTo>
                    <a:pt x="4852" y="6"/>
                  </a:lnTo>
                  <a:lnTo>
                    <a:pt x="4839" y="1"/>
                  </a:lnTo>
                  <a:lnTo>
                    <a:pt x="4826" y="0"/>
                  </a:lnTo>
                  <a:lnTo>
                    <a:pt x="4810" y="1"/>
                  </a:lnTo>
                  <a:lnTo>
                    <a:pt x="4795" y="6"/>
                  </a:lnTo>
                  <a:lnTo>
                    <a:pt x="4777" y="12"/>
                  </a:lnTo>
                  <a:lnTo>
                    <a:pt x="4759" y="16"/>
                  </a:lnTo>
                  <a:lnTo>
                    <a:pt x="4738" y="17"/>
                  </a:lnTo>
                  <a:lnTo>
                    <a:pt x="4715" y="18"/>
                  </a:lnTo>
                  <a:lnTo>
                    <a:pt x="4694" y="18"/>
                  </a:lnTo>
                  <a:lnTo>
                    <a:pt x="4672" y="18"/>
                  </a:lnTo>
                  <a:lnTo>
                    <a:pt x="4652" y="18"/>
                  </a:lnTo>
                  <a:lnTo>
                    <a:pt x="4632" y="20"/>
                  </a:lnTo>
                  <a:lnTo>
                    <a:pt x="4622" y="20"/>
                  </a:lnTo>
                  <a:lnTo>
                    <a:pt x="4612" y="21"/>
                  </a:lnTo>
                  <a:lnTo>
                    <a:pt x="4600" y="22"/>
                  </a:lnTo>
                  <a:lnTo>
                    <a:pt x="4588" y="23"/>
                  </a:lnTo>
                  <a:lnTo>
                    <a:pt x="4575" y="26"/>
                  </a:lnTo>
                  <a:lnTo>
                    <a:pt x="4562" y="28"/>
                  </a:lnTo>
                  <a:lnTo>
                    <a:pt x="4549" y="31"/>
                  </a:lnTo>
                  <a:lnTo>
                    <a:pt x="4535" y="33"/>
                  </a:lnTo>
                  <a:lnTo>
                    <a:pt x="4522" y="37"/>
                  </a:lnTo>
                  <a:lnTo>
                    <a:pt x="4508" y="40"/>
                  </a:lnTo>
                  <a:lnTo>
                    <a:pt x="4494" y="44"/>
                  </a:lnTo>
                  <a:lnTo>
                    <a:pt x="4481" y="49"/>
                  </a:lnTo>
                  <a:lnTo>
                    <a:pt x="4467" y="55"/>
                  </a:lnTo>
                  <a:lnTo>
                    <a:pt x="4455" y="60"/>
                  </a:lnTo>
                  <a:lnTo>
                    <a:pt x="4442" y="66"/>
                  </a:lnTo>
                  <a:lnTo>
                    <a:pt x="4431" y="74"/>
                  </a:lnTo>
                  <a:lnTo>
                    <a:pt x="4409" y="86"/>
                  </a:lnTo>
                  <a:lnTo>
                    <a:pt x="4391" y="96"/>
                  </a:lnTo>
                  <a:lnTo>
                    <a:pt x="4374" y="103"/>
                  </a:lnTo>
                  <a:lnTo>
                    <a:pt x="4357" y="107"/>
                  </a:lnTo>
                  <a:lnTo>
                    <a:pt x="4340" y="110"/>
                  </a:lnTo>
                  <a:lnTo>
                    <a:pt x="4321" y="110"/>
                  </a:lnTo>
                  <a:lnTo>
                    <a:pt x="4300" y="110"/>
                  </a:lnTo>
                  <a:lnTo>
                    <a:pt x="4275" y="108"/>
                  </a:lnTo>
                  <a:lnTo>
                    <a:pt x="4261" y="107"/>
                  </a:lnTo>
                  <a:lnTo>
                    <a:pt x="4247" y="107"/>
                  </a:lnTo>
                  <a:lnTo>
                    <a:pt x="4232" y="105"/>
                  </a:lnTo>
                  <a:lnTo>
                    <a:pt x="4216" y="105"/>
                  </a:lnTo>
                  <a:lnTo>
                    <a:pt x="4199" y="105"/>
                  </a:lnTo>
                  <a:lnTo>
                    <a:pt x="4183" y="105"/>
                  </a:lnTo>
                  <a:lnTo>
                    <a:pt x="4165" y="105"/>
                  </a:lnTo>
                  <a:lnTo>
                    <a:pt x="4147" y="107"/>
                  </a:lnTo>
                  <a:lnTo>
                    <a:pt x="4130" y="108"/>
                  </a:lnTo>
                  <a:lnTo>
                    <a:pt x="4112" y="109"/>
                  </a:lnTo>
                  <a:lnTo>
                    <a:pt x="4096" y="112"/>
                  </a:lnTo>
                  <a:lnTo>
                    <a:pt x="4078" y="114"/>
                  </a:lnTo>
                  <a:lnTo>
                    <a:pt x="4062" y="116"/>
                  </a:lnTo>
                  <a:lnTo>
                    <a:pt x="4045" y="120"/>
                  </a:lnTo>
                  <a:lnTo>
                    <a:pt x="4029" y="124"/>
                  </a:lnTo>
                  <a:lnTo>
                    <a:pt x="4013" y="129"/>
                  </a:lnTo>
                  <a:lnTo>
                    <a:pt x="3998" y="134"/>
                  </a:lnTo>
                  <a:lnTo>
                    <a:pt x="3982" y="138"/>
                  </a:lnTo>
                  <a:lnTo>
                    <a:pt x="3964" y="143"/>
                  </a:lnTo>
                  <a:lnTo>
                    <a:pt x="3946" y="147"/>
                  </a:lnTo>
                  <a:lnTo>
                    <a:pt x="3927" y="152"/>
                  </a:lnTo>
                  <a:lnTo>
                    <a:pt x="3907" y="157"/>
                  </a:lnTo>
                  <a:lnTo>
                    <a:pt x="3889" y="162"/>
                  </a:lnTo>
                  <a:lnTo>
                    <a:pt x="3869" y="165"/>
                  </a:lnTo>
                  <a:lnTo>
                    <a:pt x="3849" y="169"/>
                  </a:lnTo>
                  <a:lnTo>
                    <a:pt x="3829" y="173"/>
                  </a:lnTo>
                  <a:lnTo>
                    <a:pt x="3809" y="176"/>
                  </a:lnTo>
                  <a:lnTo>
                    <a:pt x="3790" y="180"/>
                  </a:lnTo>
                  <a:lnTo>
                    <a:pt x="3771" y="183"/>
                  </a:lnTo>
                  <a:lnTo>
                    <a:pt x="3752" y="185"/>
                  </a:lnTo>
                  <a:lnTo>
                    <a:pt x="3735" y="186"/>
                  </a:lnTo>
                  <a:lnTo>
                    <a:pt x="3718" y="187"/>
                  </a:lnTo>
                  <a:lnTo>
                    <a:pt x="3702" y="189"/>
                  </a:lnTo>
                  <a:lnTo>
                    <a:pt x="3684" y="190"/>
                  </a:lnTo>
                  <a:lnTo>
                    <a:pt x="3665" y="192"/>
                  </a:lnTo>
                  <a:lnTo>
                    <a:pt x="3645" y="195"/>
                  </a:lnTo>
                  <a:lnTo>
                    <a:pt x="3627" y="199"/>
                  </a:lnTo>
                  <a:lnTo>
                    <a:pt x="3607" y="202"/>
                  </a:lnTo>
                  <a:lnTo>
                    <a:pt x="3587" y="206"/>
                  </a:lnTo>
                  <a:lnTo>
                    <a:pt x="3567" y="210"/>
                  </a:lnTo>
                  <a:lnTo>
                    <a:pt x="3548" y="214"/>
                  </a:lnTo>
                  <a:lnTo>
                    <a:pt x="3529" y="218"/>
                  </a:lnTo>
                  <a:lnTo>
                    <a:pt x="3511" y="222"/>
                  </a:lnTo>
                  <a:lnTo>
                    <a:pt x="3495" y="227"/>
                  </a:lnTo>
                  <a:lnTo>
                    <a:pt x="3480" y="230"/>
                  </a:lnTo>
                  <a:lnTo>
                    <a:pt x="3467" y="233"/>
                  </a:lnTo>
                  <a:lnTo>
                    <a:pt x="3454" y="236"/>
                  </a:lnTo>
                  <a:lnTo>
                    <a:pt x="3444" y="239"/>
                  </a:lnTo>
                  <a:lnTo>
                    <a:pt x="3435" y="241"/>
                  </a:lnTo>
                  <a:lnTo>
                    <a:pt x="3424" y="241"/>
                  </a:lnTo>
                  <a:lnTo>
                    <a:pt x="3413" y="243"/>
                  </a:lnTo>
                  <a:lnTo>
                    <a:pt x="3400" y="243"/>
                  </a:lnTo>
                  <a:lnTo>
                    <a:pt x="3385" y="241"/>
                  </a:lnTo>
                  <a:lnTo>
                    <a:pt x="3370" y="241"/>
                  </a:lnTo>
                  <a:lnTo>
                    <a:pt x="3355" y="241"/>
                  </a:lnTo>
                  <a:lnTo>
                    <a:pt x="3337" y="241"/>
                  </a:lnTo>
                  <a:lnTo>
                    <a:pt x="3320" y="241"/>
                  </a:lnTo>
                  <a:lnTo>
                    <a:pt x="3302" y="244"/>
                  </a:lnTo>
                  <a:lnTo>
                    <a:pt x="3282" y="246"/>
                  </a:lnTo>
                  <a:lnTo>
                    <a:pt x="3262" y="250"/>
                  </a:lnTo>
                  <a:lnTo>
                    <a:pt x="3242" y="256"/>
                  </a:lnTo>
                  <a:lnTo>
                    <a:pt x="3221" y="263"/>
                  </a:lnTo>
                  <a:lnTo>
                    <a:pt x="3200" y="272"/>
                  </a:lnTo>
                  <a:lnTo>
                    <a:pt x="3177" y="284"/>
                  </a:lnTo>
                  <a:lnTo>
                    <a:pt x="3156" y="295"/>
                  </a:lnTo>
                  <a:lnTo>
                    <a:pt x="3137" y="304"/>
                  </a:lnTo>
                  <a:lnTo>
                    <a:pt x="3121" y="311"/>
                  </a:lnTo>
                  <a:lnTo>
                    <a:pt x="3106" y="315"/>
                  </a:lnTo>
                  <a:lnTo>
                    <a:pt x="3093" y="319"/>
                  </a:lnTo>
                  <a:lnTo>
                    <a:pt x="3080" y="321"/>
                  </a:lnTo>
                  <a:lnTo>
                    <a:pt x="3068" y="321"/>
                  </a:lnTo>
                  <a:lnTo>
                    <a:pt x="3057" y="322"/>
                  </a:lnTo>
                  <a:lnTo>
                    <a:pt x="3047" y="322"/>
                  </a:lnTo>
                  <a:lnTo>
                    <a:pt x="3036" y="322"/>
                  </a:lnTo>
                  <a:lnTo>
                    <a:pt x="3025" y="322"/>
                  </a:lnTo>
                  <a:lnTo>
                    <a:pt x="3013" y="324"/>
                  </a:lnTo>
                  <a:lnTo>
                    <a:pt x="3000" y="326"/>
                  </a:lnTo>
                  <a:lnTo>
                    <a:pt x="2986" y="330"/>
                  </a:lnTo>
                  <a:lnTo>
                    <a:pt x="2969" y="335"/>
                  </a:lnTo>
                  <a:lnTo>
                    <a:pt x="2952" y="342"/>
                  </a:lnTo>
                  <a:lnTo>
                    <a:pt x="2933" y="349"/>
                  </a:lnTo>
                  <a:lnTo>
                    <a:pt x="2912" y="355"/>
                  </a:lnTo>
                  <a:lnTo>
                    <a:pt x="2892" y="360"/>
                  </a:lnTo>
                  <a:lnTo>
                    <a:pt x="2871" y="364"/>
                  </a:lnTo>
                  <a:lnTo>
                    <a:pt x="2849" y="366"/>
                  </a:lnTo>
                  <a:lnTo>
                    <a:pt x="2828" y="368"/>
                  </a:lnTo>
                  <a:lnTo>
                    <a:pt x="2808" y="369"/>
                  </a:lnTo>
                  <a:lnTo>
                    <a:pt x="2787" y="369"/>
                  </a:lnTo>
                  <a:lnTo>
                    <a:pt x="2767" y="368"/>
                  </a:lnTo>
                  <a:lnTo>
                    <a:pt x="2748" y="368"/>
                  </a:lnTo>
                  <a:lnTo>
                    <a:pt x="2729" y="366"/>
                  </a:lnTo>
                  <a:lnTo>
                    <a:pt x="2712" y="365"/>
                  </a:lnTo>
                  <a:lnTo>
                    <a:pt x="2697" y="364"/>
                  </a:lnTo>
                  <a:lnTo>
                    <a:pt x="2681" y="363"/>
                  </a:lnTo>
                  <a:lnTo>
                    <a:pt x="2668" y="361"/>
                  </a:lnTo>
                  <a:lnTo>
                    <a:pt x="2657" y="361"/>
                  </a:lnTo>
                  <a:lnTo>
                    <a:pt x="2652" y="364"/>
                  </a:lnTo>
                  <a:lnTo>
                    <a:pt x="2645" y="366"/>
                  </a:lnTo>
                  <a:lnTo>
                    <a:pt x="2635" y="369"/>
                  </a:lnTo>
                  <a:lnTo>
                    <a:pt x="2625" y="373"/>
                  </a:lnTo>
                  <a:lnTo>
                    <a:pt x="2613" y="376"/>
                  </a:lnTo>
                  <a:lnTo>
                    <a:pt x="2600" y="380"/>
                  </a:lnTo>
                  <a:lnTo>
                    <a:pt x="2585" y="384"/>
                  </a:lnTo>
                  <a:lnTo>
                    <a:pt x="2571" y="387"/>
                  </a:lnTo>
                  <a:lnTo>
                    <a:pt x="2555" y="391"/>
                  </a:lnTo>
                  <a:lnTo>
                    <a:pt x="2540" y="396"/>
                  </a:lnTo>
                  <a:lnTo>
                    <a:pt x="2525" y="399"/>
                  </a:lnTo>
                  <a:lnTo>
                    <a:pt x="2510" y="403"/>
                  </a:lnTo>
                  <a:lnTo>
                    <a:pt x="2497" y="407"/>
                  </a:lnTo>
                  <a:lnTo>
                    <a:pt x="2484" y="411"/>
                  </a:lnTo>
                  <a:lnTo>
                    <a:pt x="2472" y="414"/>
                  </a:lnTo>
                  <a:lnTo>
                    <a:pt x="2461" y="417"/>
                  </a:lnTo>
                  <a:lnTo>
                    <a:pt x="2451" y="417"/>
                  </a:lnTo>
                  <a:lnTo>
                    <a:pt x="2439" y="418"/>
                  </a:lnTo>
                  <a:lnTo>
                    <a:pt x="2424" y="418"/>
                  </a:lnTo>
                  <a:lnTo>
                    <a:pt x="2406" y="418"/>
                  </a:lnTo>
                  <a:lnTo>
                    <a:pt x="2386" y="420"/>
                  </a:lnTo>
                  <a:lnTo>
                    <a:pt x="2365" y="423"/>
                  </a:lnTo>
                  <a:lnTo>
                    <a:pt x="2342" y="429"/>
                  </a:lnTo>
                  <a:lnTo>
                    <a:pt x="2317" y="436"/>
                  </a:lnTo>
                  <a:lnTo>
                    <a:pt x="2304" y="441"/>
                  </a:lnTo>
                  <a:lnTo>
                    <a:pt x="2289" y="447"/>
                  </a:lnTo>
                  <a:lnTo>
                    <a:pt x="2274" y="452"/>
                  </a:lnTo>
                  <a:lnTo>
                    <a:pt x="2258" y="458"/>
                  </a:lnTo>
                  <a:lnTo>
                    <a:pt x="2242" y="464"/>
                  </a:lnTo>
                  <a:lnTo>
                    <a:pt x="2225" y="469"/>
                  </a:lnTo>
                  <a:lnTo>
                    <a:pt x="2209" y="475"/>
                  </a:lnTo>
                  <a:lnTo>
                    <a:pt x="2192" y="482"/>
                  </a:lnTo>
                  <a:lnTo>
                    <a:pt x="2177" y="486"/>
                  </a:lnTo>
                  <a:lnTo>
                    <a:pt x="2160" y="491"/>
                  </a:lnTo>
                  <a:lnTo>
                    <a:pt x="2146" y="495"/>
                  </a:lnTo>
                  <a:lnTo>
                    <a:pt x="2132" y="499"/>
                  </a:lnTo>
                  <a:lnTo>
                    <a:pt x="2119" y="501"/>
                  </a:lnTo>
                  <a:lnTo>
                    <a:pt x="2108" y="504"/>
                  </a:lnTo>
                  <a:lnTo>
                    <a:pt x="2097" y="505"/>
                  </a:lnTo>
                  <a:lnTo>
                    <a:pt x="2089" y="505"/>
                  </a:lnTo>
                  <a:lnTo>
                    <a:pt x="2073" y="504"/>
                  </a:lnTo>
                  <a:lnTo>
                    <a:pt x="2061" y="504"/>
                  </a:lnTo>
                  <a:lnTo>
                    <a:pt x="2046" y="502"/>
                  </a:lnTo>
                  <a:lnTo>
                    <a:pt x="2036" y="501"/>
                  </a:lnTo>
                  <a:lnTo>
                    <a:pt x="2026" y="501"/>
                  </a:lnTo>
                  <a:lnTo>
                    <a:pt x="2018" y="500"/>
                  </a:lnTo>
                  <a:lnTo>
                    <a:pt x="2014" y="500"/>
                  </a:lnTo>
                  <a:lnTo>
                    <a:pt x="2012" y="500"/>
                  </a:lnTo>
                  <a:lnTo>
                    <a:pt x="2004" y="502"/>
                  </a:lnTo>
                  <a:lnTo>
                    <a:pt x="1992" y="507"/>
                  </a:lnTo>
                  <a:lnTo>
                    <a:pt x="1977" y="512"/>
                  </a:lnTo>
                  <a:lnTo>
                    <a:pt x="1959" y="517"/>
                  </a:lnTo>
                  <a:lnTo>
                    <a:pt x="1939" y="523"/>
                  </a:lnTo>
                  <a:lnTo>
                    <a:pt x="1918" y="529"/>
                  </a:lnTo>
                  <a:lnTo>
                    <a:pt x="1897" y="537"/>
                  </a:lnTo>
                  <a:lnTo>
                    <a:pt x="1875" y="543"/>
                  </a:lnTo>
                  <a:lnTo>
                    <a:pt x="1854" y="550"/>
                  </a:lnTo>
                  <a:lnTo>
                    <a:pt x="1832" y="556"/>
                  </a:lnTo>
                  <a:lnTo>
                    <a:pt x="1814" y="561"/>
                  </a:lnTo>
                  <a:lnTo>
                    <a:pt x="1797" y="567"/>
                  </a:lnTo>
                  <a:lnTo>
                    <a:pt x="1783" y="571"/>
                  </a:lnTo>
                  <a:lnTo>
                    <a:pt x="1772" y="575"/>
                  </a:lnTo>
                  <a:lnTo>
                    <a:pt x="1765" y="576"/>
                  </a:lnTo>
                  <a:lnTo>
                    <a:pt x="1763" y="577"/>
                  </a:lnTo>
                  <a:lnTo>
                    <a:pt x="1751" y="578"/>
                  </a:lnTo>
                  <a:lnTo>
                    <a:pt x="1736" y="577"/>
                  </a:lnTo>
                  <a:lnTo>
                    <a:pt x="1720" y="576"/>
                  </a:lnTo>
                  <a:lnTo>
                    <a:pt x="1702" y="573"/>
                  </a:lnTo>
                  <a:lnTo>
                    <a:pt x="1684" y="572"/>
                  </a:lnTo>
                  <a:lnTo>
                    <a:pt x="1666" y="571"/>
                  </a:lnTo>
                  <a:lnTo>
                    <a:pt x="1649" y="570"/>
                  </a:lnTo>
                  <a:lnTo>
                    <a:pt x="1633" y="571"/>
                  </a:lnTo>
                  <a:lnTo>
                    <a:pt x="1616" y="572"/>
                  </a:lnTo>
                  <a:lnTo>
                    <a:pt x="1598" y="573"/>
                  </a:lnTo>
                  <a:lnTo>
                    <a:pt x="1580" y="575"/>
                  </a:lnTo>
                  <a:lnTo>
                    <a:pt x="1561" y="577"/>
                  </a:lnTo>
                  <a:lnTo>
                    <a:pt x="1542" y="580"/>
                  </a:lnTo>
                  <a:lnTo>
                    <a:pt x="1524" y="583"/>
                  </a:lnTo>
                  <a:lnTo>
                    <a:pt x="1509" y="588"/>
                  </a:lnTo>
                  <a:lnTo>
                    <a:pt x="1496" y="594"/>
                  </a:lnTo>
                  <a:lnTo>
                    <a:pt x="1484" y="600"/>
                  </a:lnTo>
                  <a:lnTo>
                    <a:pt x="1472" y="607"/>
                  </a:lnTo>
                  <a:lnTo>
                    <a:pt x="1457" y="611"/>
                  </a:lnTo>
                  <a:lnTo>
                    <a:pt x="1443" y="616"/>
                  </a:lnTo>
                  <a:lnTo>
                    <a:pt x="1428" y="620"/>
                  </a:lnTo>
                  <a:lnTo>
                    <a:pt x="1412" y="624"/>
                  </a:lnTo>
                  <a:lnTo>
                    <a:pt x="1395" y="625"/>
                  </a:lnTo>
                  <a:lnTo>
                    <a:pt x="1377" y="626"/>
                  </a:lnTo>
                  <a:lnTo>
                    <a:pt x="1359" y="626"/>
                  </a:lnTo>
                  <a:lnTo>
                    <a:pt x="1340" y="629"/>
                  </a:lnTo>
                  <a:lnTo>
                    <a:pt x="1321" y="631"/>
                  </a:lnTo>
                  <a:lnTo>
                    <a:pt x="1303" y="634"/>
                  </a:lnTo>
                  <a:lnTo>
                    <a:pt x="1287" y="637"/>
                  </a:lnTo>
                  <a:lnTo>
                    <a:pt x="1272" y="642"/>
                  </a:lnTo>
                  <a:lnTo>
                    <a:pt x="1259" y="646"/>
                  </a:lnTo>
                  <a:lnTo>
                    <a:pt x="1247" y="651"/>
                  </a:lnTo>
                  <a:lnTo>
                    <a:pt x="1235" y="654"/>
                  </a:lnTo>
                  <a:lnTo>
                    <a:pt x="1221" y="658"/>
                  </a:lnTo>
                  <a:lnTo>
                    <a:pt x="1205" y="660"/>
                  </a:lnTo>
                  <a:lnTo>
                    <a:pt x="1187" y="663"/>
                  </a:lnTo>
                  <a:lnTo>
                    <a:pt x="1168" y="667"/>
                  </a:lnTo>
                  <a:lnTo>
                    <a:pt x="1149" y="672"/>
                  </a:lnTo>
                  <a:lnTo>
                    <a:pt x="1131" y="676"/>
                  </a:lnTo>
                  <a:lnTo>
                    <a:pt x="1113" y="684"/>
                  </a:lnTo>
                  <a:lnTo>
                    <a:pt x="1012" y="678"/>
                  </a:lnTo>
                  <a:lnTo>
                    <a:pt x="1008" y="678"/>
                  </a:lnTo>
                  <a:lnTo>
                    <a:pt x="1000" y="678"/>
                  </a:lnTo>
                  <a:lnTo>
                    <a:pt x="987" y="678"/>
                  </a:lnTo>
                  <a:lnTo>
                    <a:pt x="973" y="679"/>
                  </a:lnTo>
                  <a:lnTo>
                    <a:pt x="958" y="680"/>
                  </a:lnTo>
                  <a:lnTo>
                    <a:pt x="942" y="683"/>
                  </a:lnTo>
                  <a:lnTo>
                    <a:pt x="930" y="685"/>
                  </a:lnTo>
                  <a:lnTo>
                    <a:pt x="921" y="689"/>
                  </a:lnTo>
                  <a:lnTo>
                    <a:pt x="913" y="694"/>
                  </a:lnTo>
                  <a:lnTo>
                    <a:pt x="900" y="700"/>
                  </a:lnTo>
                  <a:lnTo>
                    <a:pt x="883" y="708"/>
                  </a:lnTo>
                  <a:lnTo>
                    <a:pt x="864" y="717"/>
                  </a:lnTo>
                  <a:lnTo>
                    <a:pt x="843" y="727"/>
                  </a:lnTo>
                  <a:lnTo>
                    <a:pt x="820" y="736"/>
                  </a:lnTo>
                  <a:lnTo>
                    <a:pt x="797" y="745"/>
                  </a:lnTo>
                  <a:lnTo>
                    <a:pt x="774" y="754"/>
                  </a:lnTo>
                  <a:lnTo>
                    <a:pt x="763" y="757"/>
                  </a:lnTo>
                  <a:lnTo>
                    <a:pt x="750" y="760"/>
                  </a:lnTo>
                  <a:lnTo>
                    <a:pt x="734" y="762"/>
                  </a:lnTo>
                  <a:lnTo>
                    <a:pt x="719" y="765"/>
                  </a:lnTo>
                  <a:lnTo>
                    <a:pt x="703" y="767"/>
                  </a:lnTo>
                  <a:lnTo>
                    <a:pt x="685" y="770"/>
                  </a:lnTo>
                  <a:lnTo>
                    <a:pt x="666" y="772"/>
                  </a:lnTo>
                  <a:lnTo>
                    <a:pt x="647" y="773"/>
                  </a:lnTo>
                  <a:lnTo>
                    <a:pt x="627" y="774"/>
                  </a:lnTo>
                  <a:lnTo>
                    <a:pt x="606" y="776"/>
                  </a:lnTo>
                  <a:lnTo>
                    <a:pt x="585" y="777"/>
                  </a:lnTo>
                  <a:lnTo>
                    <a:pt x="564" y="778"/>
                  </a:lnTo>
                  <a:lnTo>
                    <a:pt x="543" y="779"/>
                  </a:lnTo>
                  <a:lnTo>
                    <a:pt x="520" y="781"/>
                  </a:lnTo>
                  <a:lnTo>
                    <a:pt x="498" y="781"/>
                  </a:lnTo>
                  <a:lnTo>
                    <a:pt x="476" y="782"/>
                  </a:lnTo>
                  <a:lnTo>
                    <a:pt x="457" y="783"/>
                  </a:lnTo>
                  <a:lnTo>
                    <a:pt x="443" y="787"/>
                  </a:lnTo>
                  <a:lnTo>
                    <a:pt x="431" y="790"/>
                  </a:lnTo>
                  <a:lnTo>
                    <a:pt x="422" y="794"/>
                  </a:lnTo>
                  <a:lnTo>
                    <a:pt x="413" y="800"/>
                  </a:lnTo>
                  <a:lnTo>
                    <a:pt x="404" y="805"/>
                  </a:lnTo>
                  <a:lnTo>
                    <a:pt x="393" y="810"/>
                  </a:lnTo>
                  <a:lnTo>
                    <a:pt x="381" y="815"/>
                  </a:lnTo>
                  <a:lnTo>
                    <a:pt x="365" y="821"/>
                  </a:lnTo>
                  <a:lnTo>
                    <a:pt x="349" y="827"/>
                  </a:lnTo>
                  <a:lnTo>
                    <a:pt x="331" y="834"/>
                  </a:lnTo>
                  <a:lnTo>
                    <a:pt x="313" y="843"/>
                  </a:lnTo>
                  <a:lnTo>
                    <a:pt x="294" y="850"/>
                  </a:lnTo>
                  <a:lnTo>
                    <a:pt x="274" y="858"/>
                  </a:lnTo>
                  <a:lnTo>
                    <a:pt x="251" y="865"/>
                  </a:lnTo>
                  <a:lnTo>
                    <a:pt x="228" y="871"/>
                  </a:lnTo>
                  <a:close/>
                </a:path>
              </a:pathLst>
            </a:custGeom>
            <a:solidFill>
              <a:srgbClr val="434c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Humanst521 BT"/>
              </a:endParaRPr>
            </a:p>
          </p:txBody>
        </p:sp>
      </p:grpSp>
      <p:sp>
        <p:nvSpPr>
          <p:cNvPr id="122" name="Text Box 7"/>
          <p:cNvSpPr/>
          <p:nvPr/>
        </p:nvSpPr>
        <p:spPr>
          <a:xfrm>
            <a:off x="533520" y="1447920"/>
            <a:ext cx="29908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14.  But when Jesus saw it, </a:t>
            </a:r>
            <a:br>
              <a:rPr sz="2800"/>
            </a:br>
            <a:r>
              <a:rPr b="0" i="1" lang="en-US" sz="2800" spc="-1" strike="noStrike">
                <a:solidFill>
                  <a:srgbClr val="ffffff"/>
                </a:solidFill>
                <a:latin typeface="Humanst521 BT"/>
              </a:rPr>
              <a:t>He was greatly displeased and said to them, “Let the little children come to Me, and do not forbid them; for of such  is the kingdom of God.”  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0" dur="1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5" dur="1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0" dur="1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25" dur="1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5BBDB5E8-A481-48E2-99E4-6CB52AD7D667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How We See Children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AutoShape 11"/>
          <p:cNvSpPr/>
          <p:nvPr/>
        </p:nvSpPr>
        <p:spPr>
          <a:xfrm>
            <a:off x="380880" y="1523880"/>
            <a:ext cx="2895840" cy="1828800"/>
          </a:xfrm>
          <a:prstGeom prst="cloudCallout">
            <a:avLst>
              <a:gd name="adj1" fmla="val -58166"/>
              <a:gd name="adj2" fmla="val 62500"/>
            </a:avLst>
          </a:prstGeom>
          <a:gradFill rotWithShape="0">
            <a:gsLst>
              <a:gs pos="0">
                <a:srgbClr val="434c8d"/>
              </a:gs>
              <a:gs pos="100000">
                <a:srgbClr val="000000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1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bother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12"/>
          <p:cNvSpPr/>
          <p:nvPr/>
        </p:nvSpPr>
        <p:spPr>
          <a:xfrm>
            <a:off x="6553080" y="2438280"/>
            <a:ext cx="243864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simply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wrong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ath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toward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AutoShape 13"/>
          <p:cNvSpPr/>
          <p:nvPr/>
        </p:nvSpPr>
        <p:spPr>
          <a:xfrm>
            <a:off x="380880" y="4038480"/>
            <a:ext cx="2895840" cy="1828800"/>
          </a:xfrm>
          <a:prstGeom prst="cloudCallout">
            <a:avLst>
              <a:gd name="adj1" fmla="val -56907"/>
              <a:gd name="adj2" fmla="val 64842"/>
            </a:avLst>
          </a:prstGeom>
          <a:gradFill rotWithShape="0">
            <a:gsLst>
              <a:gs pos="0">
                <a:srgbClr val="d1e8ff"/>
              </a:gs>
              <a:gs pos="100000">
                <a:srgbClr val="3399ff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3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our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futur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AutoShape 14"/>
          <p:cNvSpPr/>
          <p:nvPr/>
        </p:nvSpPr>
        <p:spPr>
          <a:xfrm>
            <a:off x="3467160" y="1523880"/>
            <a:ext cx="2895480" cy="1828800"/>
          </a:xfrm>
          <a:prstGeom prst="cloudCallout">
            <a:avLst>
              <a:gd name="adj1" fmla="val -61625"/>
              <a:gd name="adj2" fmla="val 60592"/>
            </a:avLst>
          </a:prstGeom>
          <a:gradFill rotWithShape="0">
            <a:gsLst>
              <a:gs pos="0">
                <a:srgbClr val="3333ff"/>
              </a:gs>
              <a:gs pos="100000">
                <a:srgbClr val="434c8d"/>
              </a:gs>
            </a:gsLst>
            <a:lin ang="5400000"/>
          </a:gra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ttitude #2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are a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Humanst521 BT"/>
              </a:rPr>
              <a:t>tool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AutoShape 15"/>
          <p:cNvSpPr/>
          <p:nvPr/>
        </p:nvSpPr>
        <p:spPr>
          <a:xfrm>
            <a:off x="3467160" y="4038480"/>
            <a:ext cx="2895480" cy="1828800"/>
          </a:xfrm>
          <a:prstGeom prst="cloudCallout">
            <a:avLst>
              <a:gd name="adj1" fmla="val -60583"/>
              <a:gd name="adj2" fmla="val 65972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lin ang="5400000"/>
          </a:gradFill>
          <a:ln w="28440">
            <a:solidFill>
              <a:srgbClr val="d1e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Attitude #4: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hildren ar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Humanst521 BT"/>
              </a:rPr>
              <a:t>peopl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0" name="Text Box 16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practic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oval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1" name="Text Box 17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true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ppreciation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2" name="Text Box 18"/>
          <p:cNvSpPr/>
          <p:nvPr/>
        </p:nvSpPr>
        <p:spPr>
          <a:xfrm>
            <a:off x="6553080" y="2590920"/>
            <a:ext cx="2438640" cy="321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s attitud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Jesus’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!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marL="228600" indent="-228600">
              <a:spcBef>
                <a:spcPts val="1500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When it is present, there is </a:t>
            </a:r>
            <a:r>
              <a:rPr b="1" lang="en-US" sz="2400" spc="-1" strike="noStrike" u="sng">
                <a:solidFill>
                  <a:srgbClr val="cc0000"/>
                </a:solidFill>
                <a:uFillTx/>
                <a:latin typeface="Humanst521 BT"/>
              </a:rPr>
              <a:t>a priority</a:t>
            </a: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 on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4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20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7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8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2000"/>
                            </p:stCondLst>
                            <p:childTnLst>
                              <p:par>
                                <p:cTn id="190" nodeType="afterEffect" fill="hold" presetClass="entr" presetID="1">
                                  <p:stCondLst>
                                    <p:cond delay="100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0099999994039535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2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204" dur="1" fill="hold"/>
                                  <p:tgtEl>
                                    <p:spTgt spid="132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855571F7-E47F-434E-A73B-5615B73B3BE3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64008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Jesus’ Priority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35" name="Freeform 9"/>
          <p:cNvSpPr/>
          <p:nvPr/>
        </p:nvSpPr>
        <p:spPr>
          <a:xfrm rot="388200">
            <a:off x="2359080" y="3936960"/>
            <a:ext cx="4421160" cy="617400"/>
          </a:xfrm>
          <a:custGeom>
            <a:avLst/>
            <a:gdLst>
              <a:gd name="textAreaLeft" fmla="*/ 0 w 4421160"/>
              <a:gd name="textAreaRight" fmla="*/ 4421520 w 4421160"/>
              <a:gd name="textAreaTop" fmla="*/ 0 h 617400"/>
              <a:gd name="textAreaBottom" fmla="*/ 617400 h 617400"/>
            </a:gdLst>
            <a:ahLst/>
            <a:rect l="textAreaLeft" t="textAreaTop" r="textAreaRight" b="textAreaBottom"/>
            <a:pathLst>
              <a:path w="3125" h="389">
                <a:moveTo>
                  <a:pt x="11" y="352"/>
                </a:moveTo>
                <a:cubicBezTo>
                  <a:pt x="240" y="311"/>
                  <a:pt x="470" y="273"/>
                  <a:pt x="699" y="230"/>
                </a:cubicBezTo>
                <a:cubicBezTo>
                  <a:pt x="714" y="227"/>
                  <a:pt x="742" y="214"/>
                  <a:pt x="742" y="214"/>
                </a:cubicBezTo>
                <a:cubicBezTo>
                  <a:pt x="799" y="216"/>
                  <a:pt x="855" y="215"/>
                  <a:pt x="912" y="219"/>
                </a:cubicBezTo>
                <a:cubicBezTo>
                  <a:pt x="976" y="223"/>
                  <a:pt x="1040" y="243"/>
                  <a:pt x="1104" y="251"/>
                </a:cubicBezTo>
                <a:cubicBezTo>
                  <a:pt x="1180" y="229"/>
                  <a:pt x="1260" y="217"/>
                  <a:pt x="1339" y="214"/>
                </a:cubicBezTo>
                <a:cubicBezTo>
                  <a:pt x="1446" y="210"/>
                  <a:pt x="1659" y="203"/>
                  <a:pt x="1659" y="203"/>
                </a:cubicBezTo>
                <a:cubicBezTo>
                  <a:pt x="1703" y="199"/>
                  <a:pt x="1748" y="198"/>
                  <a:pt x="1792" y="192"/>
                </a:cubicBezTo>
                <a:cubicBezTo>
                  <a:pt x="1834" y="186"/>
                  <a:pt x="1889" y="158"/>
                  <a:pt x="1931" y="150"/>
                </a:cubicBezTo>
                <a:cubicBezTo>
                  <a:pt x="2116" y="115"/>
                  <a:pt x="2293" y="88"/>
                  <a:pt x="2480" y="80"/>
                </a:cubicBezTo>
                <a:cubicBezTo>
                  <a:pt x="2514" y="74"/>
                  <a:pt x="2539" y="67"/>
                  <a:pt x="2571" y="59"/>
                </a:cubicBezTo>
                <a:cubicBezTo>
                  <a:pt x="2595" y="42"/>
                  <a:pt x="2627" y="33"/>
                  <a:pt x="2656" y="27"/>
                </a:cubicBezTo>
                <a:cubicBezTo>
                  <a:pt x="2702" y="0"/>
                  <a:pt x="3063" y="28"/>
                  <a:pt x="3115" y="16"/>
                </a:cubicBezTo>
                <a:cubicBezTo>
                  <a:pt x="3125" y="43"/>
                  <a:pt x="2739" y="57"/>
                  <a:pt x="2731" y="85"/>
                </a:cubicBezTo>
                <a:cubicBezTo>
                  <a:pt x="2725" y="104"/>
                  <a:pt x="2610" y="117"/>
                  <a:pt x="2598" y="133"/>
                </a:cubicBezTo>
                <a:cubicBezTo>
                  <a:pt x="2459" y="133"/>
                  <a:pt x="2417" y="147"/>
                  <a:pt x="2326" y="149"/>
                </a:cubicBezTo>
                <a:cubicBezTo>
                  <a:pt x="2181" y="164"/>
                  <a:pt x="2115" y="192"/>
                  <a:pt x="1968" y="197"/>
                </a:cubicBezTo>
                <a:cubicBezTo>
                  <a:pt x="1914" y="202"/>
                  <a:pt x="1878" y="267"/>
                  <a:pt x="1824" y="272"/>
                </a:cubicBezTo>
                <a:cubicBezTo>
                  <a:pt x="1778" y="265"/>
                  <a:pt x="1626" y="256"/>
                  <a:pt x="1579" y="261"/>
                </a:cubicBezTo>
                <a:cubicBezTo>
                  <a:pt x="1474" y="271"/>
                  <a:pt x="1409" y="286"/>
                  <a:pt x="1307" y="288"/>
                </a:cubicBezTo>
                <a:cubicBezTo>
                  <a:pt x="1010" y="285"/>
                  <a:pt x="819" y="307"/>
                  <a:pt x="523" y="320"/>
                </a:cubicBezTo>
                <a:cubicBezTo>
                  <a:pt x="497" y="326"/>
                  <a:pt x="464" y="344"/>
                  <a:pt x="438" y="347"/>
                </a:cubicBezTo>
                <a:cubicBezTo>
                  <a:pt x="396" y="351"/>
                  <a:pt x="353" y="350"/>
                  <a:pt x="310" y="352"/>
                </a:cubicBezTo>
                <a:cubicBezTo>
                  <a:pt x="273" y="362"/>
                  <a:pt x="253" y="389"/>
                  <a:pt x="198" y="379"/>
                </a:cubicBezTo>
                <a:cubicBezTo>
                  <a:pt x="187" y="377"/>
                  <a:pt x="118" y="368"/>
                  <a:pt x="118" y="368"/>
                </a:cubicBezTo>
                <a:cubicBezTo>
                  <a:pt x="80" y="372"/>
                  <a:pt x="31" y="372"/>
                  <a:pt x="0" y="374"/>
                </a:cubicBezTo>
                <a:cubicBezTo>
                  <a:pt x="7" y="356"/>
                  <a:pt x="2" y="362"/>
                  <a:pt x="11" y="352"/>
                </a:cubicBezTo>
                <a:close/>
              </a:path>
            </a:pathLst>
          </a:custGeom>
          <a:solidFill>
            <a:srgbClr val="000066"/>
          </a:solidFill>
          <a:ln w="0">
            <a:noFill/>
          </a:ln>
          <a:effectLst>
            <a:outerShdw dist="153753" dir="2700000" blurRad="0" rotWithShape="0">
              <a:srgbClr val="0000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1987560" y="2106720"/>
            <a:ext cx="51609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Humanst521 BT"/>
              </a:rPr>
              <a:t>If ministering to children is that important to Jesus…</a:t>
            </a:r>
            <a:endParaRPr b="0" lang="en-US" sz="4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989000" y="4670280"/>
            <a:ext cx="516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Humanst521 BT"/>
              </a:rPr>
              <a:t>That’s all I need!</a:t>
            </a:r>
            <a:endParaRPr b="0" lang="en-US" sz="5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1-</a:t>
            </a:r>
            <a:fld id="{E163BCA3-3406-40CC-8283-A3B311A279C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66400" y="75960"/>
            <a:ext cx="6210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Humanst521 BT"/>
              </a:rPr>
              <a:t>Resources</a:t>
            </a:r>
            <a:endParaRPr b="1" lang="en-US" sz="40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04560" y="2152440"/>
            <a:ext cx="8458200" cy="38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Barna, George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Transforming Children into Spiritual Champions.  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Ventura, CA: Regal Books, 2003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Gospel Light.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Children’s Ministry Smart Page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Gospel, 2004.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  <a:p>
            <a:pPr marL="284400" indent="-2844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London, H.B., Jr., and Neil B. Wiseman.  </a:t>
            </a:r>
            <a:r>
              <a:rPr b="0" i="1" lang="en-US" sz="3200" spc="-1" strike="noStrike">
                <a:solidFill>
                  <a:srgbClr val="000000"/>
                </a:solidFill>
                <a:latin typeface="Humanst521 BT"/>
              </a:rPr>
              <a:t>For Kids’ Sake:  Winning the tug of War for Future Generations.</a:t>
            </a: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 Ventura, CA:  Regal Books, 2004.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Humanst521 B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transition spd="med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53Z</dcterms:modified>
  <cp:revision>63</cp:revision>
  <dc:subject/>
  <dc:title>The Pattern of Teaching Children</dc:title>
</cp:coreProperties>
</file>